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3C3F2-895E-40BD-8216-F697E4EB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EAA3-8A1B-4A2B-A670-415E376C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D2E5-4B44-492E-A7A9-FB522A72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5734-45F2-4EFB-9FC4-D5C91DFC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59C1-9C55-4579-99A7-684F13B0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3F0A-F091-4BB3-B502-A6F8F544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9DDE-A6CC-433F-B255-48457D25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4A726-5147-4363-BB66-B97DA415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50CA-1900-461C-8C4E-51FFFCE6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2D52-B508-46B2-BF9C-D9D121C3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7FE9-DD62-4470-8ED8-68A692B7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7CC4-938E-434D-A578-FE71F9D0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6380-2CF9-413F-90CB-0977034345F8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третье «Электрическая цепь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а) найти ошибку в схеме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б) собрать электрическую цепь, измерить силу тока в цепи и напряжение на резисто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4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«</a:t>
            </a: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наешь ли ты свой учебник физики?»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1.Кто автор учебника?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2.   Что изображено на обложке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3.   Каково содержание форзацев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4.   Какова структура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5.  Сколько страниц в учебнике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Дополнительно, что можете сообщить про учебник физики 8 класса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«Загадки о физиках-учителях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о второй – 4 балла и т. д.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 последней – 1 балл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перв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844280"/>
            <a:ext cx="84596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С 1820 – 1825 гг.. он опубликовал ряд теоретических и экспериментальных трудов по электродинамик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Его отец  - жирондист, исполнявший обязанности судьи при мятежниках, был казнён как сообщник аристократо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В 1812 преподавал физику и химию в центральной школе г. Буг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Его фамилия есть в названии прибора, измеряющего силу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Название единицы силы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288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Ампер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33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втор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773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Его знания по физике были весьма скудными, но он был вынужден преподавать предмет, т. к. в США был кризис и, с работой было туго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Абердинский колледж присудил ему за курс физики степень магистр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Работал у Альберта Майкельсона – тонкого знатока физического эксперимент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Создал для средних школ и колледжей первые американские учебники физик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пределил заряд электрона, удостоен Нобелевской преми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Роберт Миллекен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36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треть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в г. Ромны Полтавской губерни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В 1901 г. для приобретения опыта в постановке эксперимента уезжает к Рентгену в г. Мюнхен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Отец современной физики (под его руководством создаётся </a:t>
            </a:r>
            <a:r>
              <a:rPr b="0" lang="ru-RU" sz="2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Физико-технологический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институт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Им было воспитано несколько поколений российских физиков 20 века (среди них П. Капица, И. Курчатов). Он был Учителем с большой буквы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дновременно с Р. Милликеном определил дискретность электрического заряд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Урок - вечер 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«Учёные, учителя - физики»,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8 класс.</a:t>
            </a:r>
            <a:br>
              <a:rPr sz="48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 </a:t>
            </a:r>
            <a:br>
              <a:rPr sz="66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8d8c"/>
                </a:solidFill>
                <a:latin typeface="Calibri"/>
              </a:rPr>
              <a:t>Презентация Кузьминой Л. В. – учителя физики ВБСОУ ОСОШ № 1 г. Калуги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Иоффе А. Ф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386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четвёрта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920" y="1599840"/>
            <a:ext cx="8280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16 марта 1789 г. в  Эрлангене,  в семье потомственного слесаря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Отец передал сыну не только знания и опыт работы с металлом, что пригодилось потом учёному при изготовлении приборов и устройств для научных исследований, но и свою настойчивость в достижении цели, работоспособность и веру в справедливость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Проучившись три семестра в университете, он в сентябре 1806 г. стал работать учителем математики в частной школе швейцарского городка Готтштадт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Он открыл теоретически  и подтвердил на опыте закон, выражающий связь между силой тока в цепи, напряжением и сопротивление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В 1881 г. на электротехническом съезде в Париже учёные единогласно утвердили название единицы сопротивления …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25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Георг Ом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5337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ключительное слово.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b20"/>
                </a:solidFill>
                <a:latin typeface="Calibri"/>
              </a:rPr>
              <a:t>Подведение итогов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Литература: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Кубеев М. Н. Сто великих имён России.- М.: Вече, 2010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Иоффе А. В. О физике и физиках.- Ленинград, «Наука», 1977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атья газеты «Весть» «Благодетели образования», 14 февраля 2008, четверг. №51-54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ёрышкин А. В. Физика. 8 кл.: Учеб. для общеобразоват. учреждений. – 6-е изд., стереотип. – М.: Дрофа, 2004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Цели урока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знакомить учащихся с деятельностью учёных физиков, которые в своё время работали учителями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казать наиболее примечательные черты их мироззрения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Методы получения научных знаний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формировать правильное представление о характере научного труда учёных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Содержани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341000"/>
            <a:ext cx="835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ступ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 Задания для команд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второе. Каждая команда рассказывает об учёном-учителе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третье – экспериментальное: «Электрическая цепь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четвёртое: «Знаешь ли ты свой учебник физики?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пятое: «Загадки о физиках-учителях»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Ампер, Аристотель, Пёрышкин А. В., Милликен Р.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Циолковский К. Э., Ломоносов М. В., Иоффе А. Ф., Попов А. С.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Заключ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 </a:t>
            </a: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три столбика выписаны обозначения физических величин, их единицы и их названия. Необходимо стрелками соединить каждую физическую величину со своей единицей измерения и названием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Перв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600200"/>
          <a:ext cx="7682040" cy="4492800"/>
        </p:xfrm>
        <a:graphic>
          <a:graphicData uri="http://schemas.openxmlformats.org/drawingml/2006/table">
            <a:tbl>
              <a:tblPr/>
              <a:tblGrid>
                <a:gridCol w="2560680"/>
                <a:gridCol w="1832040"/>
                <a:gridCol w="3289320"/>
              </a:tblGrid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щадь сечени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Кл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ила ток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заряд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Втор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7786800" cy="4924440"/>
        </p:xfrm>
        <a:graphic>
          <a:graphicData uri="http://schemas.openxmlformats.org/drawingml/2006/table">
            <a:tbl>
              <a:tblPr/>
              <a:tblGrid>
                <a:gridCol w="2595600"/>
                <a:gridCol w="1735200"/>
                <a:gridCol w="3456000"/>
              </a:tblGrid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ое 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98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ℓ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*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98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напряж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987640" y="1542960"/>
            <a:ext cx="34560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290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2:46:36Z</dcterms:created>
  <dc:creator>Кузьмина</dc:creator>
  <dc:description/>
  <dc:language>en-US</dc:language>
  <cp:lastModifiedBy>Кузьмина</cp:lastModifiedBy>
  <dcterms:modified xsi:type="dcterms:W3CDTF">2014-01-11T13:38:13Z</dcterms:modified>
  <cp:revision>18</cp:revision>
  <dc:subject/>
  <dc:title>Презентация PowerPoint</dc:title>
</cp:coreProperties>
</file>