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430F-A95F-4376-B357-CAD38889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66C8-1602-4075-901A-81B66D2B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371A-05DC-4317-B429-D0662240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E758-9B94-41FC-86B3-7A8515A9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86C0-CADD-47CA-992F-7B179206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EA10-C6F8-46CE-942D-3EE7F4DD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1BBC-9885-41D1-B5F0-E2B2C9C1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E9BF-954B-4D83-ABA0-BFFF3BB8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10AB-B68F-48C8-9AAD-DA05D80F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F517-9A88-4B00-8E87-68170888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16C5-F1B5-4998-AE92-30D43293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5840-4D7B-4B43-94D6-02EC5A8E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5C4D-638A-40E4-895D-631E8706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619D-E41E-4FC3-8DF7-CBE9AB82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9497-ACC9-40FC-BF88-8C874DDC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62C2-4C0E-4CE4-9875-444F914F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DC08-4E2D-4DE9-9528-A07000D4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88DD25-44F7-40EA-A072-20FE71DB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7E8EB4-414B-47A7-9343-28CCD9C5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181F77-696A-4704-8B19-D211518B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606FC5-9D17-4947-B509-472ACDAE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F23544-4BEA-4720-ACAE-C63E0572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AF8C-6163-4E5C-80AC-1A77872C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F696C0-09AD-4E7B-9DF7-8ACE21E8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B8E92C-1834-41A0-8513-9541678A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A22103-9FEF-45DE-B18C-7E911753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52B96-0D7C-4FF3-BBA3-40BD5622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8F9A70-3B7D-40F1-8FD8-3FD48413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71EAA2-667C-448B-81ED-E9DAEC9A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620A7E-A617-4D5D-93C9-F0E1C85C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D95AD-0642-4FED-A03D-23D2245F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039A6-C537-4923-ABFB-C9C8E4B5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27347-C72C-473D-AD21-38794418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ED17-086E-40BF-ACE3-7509F8C1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A93B5-9698-4BC7-9806-5BB1D3D1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2A83A-50DE-4548-8478-9FADDD44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143A1-EB0D-4AD1-A646-A9673FF1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1FE4B-F9E3-4AEE-8AC3-0A849C44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E117F-17F8-4377-A692-31C49831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3B833-6C67-4644-B482-5907519F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64B20-C72E-4B5E-9445-78349C33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16160-A58B-46C5-80EB-7814CD4A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11472-821C-4074-8B33-A3D36223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1285-E195-4EA0-8016-77BBF795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935F-ECC8-4B6F-97F8-EBC929D6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E50A-CA50-4E65-B2B2-E81A5379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C154-609A-47B3-89F9-67E1FA31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022F-0093-4DF6-9305-F581FA70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B205-859C-45F0-98E7-46490EDF9356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868A-C264-40EB-B9D3-0551399A8DFB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AE59-3A82-4710-884A-10AC6ECA1264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B4A7-C1B1-40CB-BD6D-B98CA7473CE0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4321440" cy="17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Gothic"/>
              </a:rPr>
              <a:t>Занимательный урок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39640" y="3716280"/>
            <a:ext cx="7777440" cy="20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Урок-вечер </a:t>
            </a:r>
            <a:r>
              <a:rPr b="1" lang="ru-RU" sz="3200" spc="-1" strike="noStrike">
                <a:solidFill>
                  <a:srgbClr val="424242"/>
                </a:solidFill>
                <a:latin typeface="Century Gothic"/>
              </a:rPr>
              <a:t>«Учёные-педагоги»</a:t>
            </a: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, 7 класс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Презентация урока учителя физик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Кузьминой Л. В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4932360" y="42876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МБВ(С)ОУ   «О(С)ОШ №1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Г. Калуг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Экспериментальное: «Динамометр» – 10 баллов. 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ано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илу тяжести,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ассу бруска, объём  бруск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45080" y="2313000"/>
            <a:ext cx="34192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Дано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силу упругости, растяжение пружины, коэффициент жёсткости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Учебник физики – 5 баллов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Конкурс болельщиков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Кто автор учебника?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Что изображено на обложке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Каково содержание форзацев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Какова структура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5. Сколько страниц в учебнике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6. Дополнительно, что можете сообщить про учебник физики 7 класс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«Загадки о физиках-учителях» – 5 баллов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о второй – 4 балла и т. д.;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 последней – 1 балл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первая 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42560" y="2323800"/>
            <a:ext cx="74898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1. Он жил в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IV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веке до нашей эры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2. Он был воспитателем Александра Македонского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3. «Самая универсальная голова среди древнегреческих философов» (Ф. Энгельс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4. Свой принцип динамики он сформулировал так: «Всё, что находится в движении, движется благодаря воздействию другого»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5. Крёстный отец физики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Аристотель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4" name="Объект 1" descr=""/>
          <p:cNvPicPr/>
          <p:nvPr/>
        </p:nvPicPr>
        <p:blipFill>
          <a:blip r:embed="rId1"/>
          <a:stretch/>
        </p:blipFill>
        <p:spPr>
          <a:xfrm>
            <a:off x="3213000" y="2330280"/>
            <a:ext cx="2654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втор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42920" y="2323800"/>
            <a:ext cx="734544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Родился в селе Деревенском на Рязанщине в 1902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Диплом учителя математики и физики получил в рязанском учительском институте, завершил образование в МГУ им. Ломоносов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Работал в школе-коммуне им. Лепешинского с 1922 по июль 1941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Долгое время возглавлял  и работал на кафедре методике преподавания физики в МГПИ им. Ленин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Он автор учебника по физике для 7класса, по которому вы учитесь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Пёрышкин А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8" name="Объект 3" descr=""/>
          <p:cNvPicPr/>
          <p:nvPr/>
        </p:nvPicPr>
        <p:blipFill>
          <a:blip r:embed="rId1"/>
          <a:stretch/>
        </p:blipFill>
        <p:spPr>
          <a:xfrm>
            <a:off x="3116160" y="2324160"/>
            <a:ext cx="28260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треть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1. Открыл атмосферу на Венер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2. В 1775 году при его активном участии был открыт первый русский университет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3. Написал первый русский учебник по минералогии и заложил основы современного стихосложения; руководил составлением карты России, создал мозаичные картины, изготавливал инструменты для морской навигации и построил первую химическую лабораторию в России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4. Он первым стал читать публичные лекции по физике на русском язык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5. Зимой 1731 года двадцати лет отроду, он пришёл с обозом в Москву и только здесь начал учиться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Ломоносов М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2" name="Объект 1" descr=""/>
          <p:cNvPicPr/>
          <p:nvPr/>
        </p:nvPicPr>
        <p:blipFill>
          <a:blip r:embed="rId1"/>
          <a:stretch/>
        </p:blipFill>
        <p:spPr>
          <a:xfrm>
            <a:off x="2930400" y="2324160"/>
            <a:ext cx="328608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четвёрт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55640" y="2323800"/>
            <a:ext cx="763272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Его предок был известный бунтарь Наливайко. Казацкий предводитель конца 16 века. Борец против польской аристократии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О себе он говорил: «Я - чистейший материалист. Ничего не признаю, кроме материи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С десяти лет глухота его сделала слабым и изгоем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О человечестве он говорил, что оно бессмертно и не останется вечно на Зем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Родился в селе Ижевском Рязанской губернии, а 40 лет прожил в Калуге, работал учителем и занимался наукой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Цели урок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Познакомить учащихся с деятельностью учёных физиков, которые в своё время работали учителями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Показать наиболее примечательные черты их мироззрения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Методы получения научных знаний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Сформировать правильное представление о характере научного труда учёны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Циолковский К.Э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6" name="Picture 7" descr="КРОСФОРД_0002"/>
          <p:cNvPicPr/>
          <p:nvPr/>
        </p:nvPicPr>
        <p:blipFill>
          <a:blip r:embed="rId1"/>
          <a:stretch/>
        </p:blipFill>
        <p:spPr>
          <a:xfrm>
            <a:off x="3325680" y="2324160"/>
            <a:ext cx="232596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Итоги игры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Century Gothic"/>
              </a:rPr>
              <a:t>Определение победителей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Литератур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 Кубеев М. Н. Сто великих имён России.- М.: Вече, 2010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Дополнительно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чественные вопросы: №№ 447, 448, 412, 508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Содержание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060640"/>
            <a:ext cx="6777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53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1. Вступительное слово учителя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2. Задания для команд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 первое: «Найди правильную дорогу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второе. Каждая команда рассказывает об учёном-учите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третье – экспериментальное: «Динамометр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четвёртое: «Знаешь ли ты свой учебник физики?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пятое: «Загадки о физиках-учителях»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(Аристотель, Пёрышкин А. В., , Циолковский К. Э., Ломоносов М. В.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3. Заключительное слово учителя (итог вечера)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1. «Найди правильную дорогу» - 5 баллов.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три столбика выписаны обозначения физических величин, их единицы и названия. Необходимо стрелками соединить каждую физическую величину со своей единицей измерения и названием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1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971640" y="2324160"/>
          <a:ext cx="6848280" cy="35528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1071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19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у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21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ор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2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971640" y="2324160"/>
          <a:ext cx="6848280" cy="36986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ъё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оща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длин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Биография учёного –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5 баллов.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ждая команда рассказывает об учёном-учител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1" name="Объект 3" descr=""/>
          <p:cNvPicPr/>
          <p:nvPr/>
        </p:nvPicPr>
        <p:blipFill>
          <a:blip r:embed="rId1"/>
          <a:stretch/>
        </p:blipFill>
        <p:spPr>
          <a:xfrm>
            <a:off x="3203640" y="2349360"/>
            <a:ext cx="262260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3" name="Picture 7" descr="КРОСФОРД_0002"/>
          <p:cNvPicPr/>
          <p:nvPr/>
        </p:nvPicPr>
        <p:blipFill>
          <a:blip r:embed="rId1"/>
          <a:stretch/>
        </p:blipFill>
        <p:spPr>
          <a:xfrm>
            <a:off x="3203640" y="2349360"/>
            <a:ext cx="266364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0:52:33Z</dcterms:created>
  <dc:creator>Кузьмина</dc:creator>
  <dc:description/>
  <dc:language>en-US</dc:language>
  <cp:lastModifiedBy>Ольга</cp:lastModifiedBy>
  <dcterms:modified xsi:type="dcterms:W3CDTF">2015-07-02T14:52:42Z</dcterms:modified>
  <cp:revision>17</cp:revision>
  <dc:subject/>
  <dc:title>Презентация PowerPoint</dc:title>
</cp:coreProperties>
</file>