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7CA-8540-4352-82A7-AFC2D815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795-B087-4D0D-BDB8-1A6CE9BE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FEB-2851-4F5E-9AF5-D10DD12A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D7B-9C13-4AB0-8F74-2BA8CF8C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9F3-F2C2-48BF-833F-210DDA84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962-9583-41B4-9A7D-286864EB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546-C6E0-4473-A51E-67FB661B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775-2452-43A5-B068-AD8358C2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F54-9248-4F82-8029-83D6CB65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DF5-9880-470E-96B6-DB628631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A3C-0BC5-4D4D-B154-A19E366C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5BE-847A-434E-AB01-D7D7BA69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854C-3B64-46E5-AC11-81D06ECA98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24360" y="1557360"/>
            <a:ext cx="4751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egoe Print"/>
              </a:rPr>
              <a:t>текстовый процесс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egoe Print"/>
              <a:ea typeface="Segoe Prin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2276640"/>
            <a:ext cx="6400800" cy="25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d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9640" y="50846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rcRect l="21217" t="38381" r="65304" b="46306"/>
          <a:stretch/>
        </p:blipFill>
        <p:spPr>
          <a:xfrm>
            <a:off x="684360" y="5229360"/>
            <a:ext cx="1371600" cy="1168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835280" y="522936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3"/>
          <p:cNvSpPr/>
          <p:nvPr/>
        </p:nvSpPr>
        <p:spPr>
          <a:xfrm flipV="1">
            <a:off x="1828800" y="1676520"/>
            <a:ext cx="60948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Мак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едакт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828800" y="3048120"/>
            <a:ext cx="76212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05520" y="0"/>
            <a:ext cx="35049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чать зап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410080" y="2233440"/>
            <a:ext cx="2895840" cy="8845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дал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5146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105520" y="1333080"/>
            <a:ext cx="37335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пол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5334120" y="3481920"/>
            <a:ext cx="2971800" cy="978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ме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1752480" y="2742840"/>
            <a:ext cx="838440" cy="304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3"/>
          <p:cNvSpPr/>
          <p:nvPr/>
        </p:nvSpPr>
        <p:spPr>
          <a:xfrm>
            <a:off x="1447920" y="3124080"/>
            <a:ext cx="1108080" cy="1241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484360" y="5445000"/>
            <a:ext cx="1366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1371600" y="304920"/>
            <a:ext cx="121932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590920" y="0"/>
            <a:ext cx="1260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284720" y="0"/>
            <a:ext cx="4325760" cy="3292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Алгоритм создания: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1. Создать шаблон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Вводить текст, вставлять Поля, устанавливать параметры Полей.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4. Защитить фор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427640" y="5507280"/>
            <a:ext cx="4249800" cy="1313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Печать пуст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Печать заполненн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Печать значений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627280" y="4149720"/>
            <a:ext cx="1584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427640" y="3537720"/>
            <a:ext cx="4383000" cy="1829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Алгоритм заполнения: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Создать документ на основе шаблона формы.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 Заполнить Поля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Сохранить форму или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4. Сохранить значения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1371600" y="3124080"/>
            <a:ext cx="10396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3"/>
          <p:cNvSpPr/>
          <p:nvPr/>
        </p:nvSpPr>
        <p:spPr>
          <a:xfrm flipV="1">
            <a:off x="1143000" y="1066320"/>
            <a:ext cx="7621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057400" y="14479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екст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0" y="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Сти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057400" y="20574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объ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1066680" y="228240"/>
            <a:ext cx="914400" cy="1523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1066680" y="175248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05740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лонтит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286000" y="388620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4427640" y="3898440"/>
            <a:ext cx="144756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и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0574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гол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858000" y="384768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80880" y="3923280"/>
            <a:ext cx="1371600" cy="3988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1066680" y="1752480"/>
            <a:ext cx="7621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724280" y="144792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629400" y="3808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ной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66294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нак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943600" y="1447920"/>
            <a:ext cx="533520" cy="152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5867280" y="609120"/>
            <a:ext cx="68580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4343400" y="2971800"/>
            <a:ext cx="68580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6"/>
          <p:cNvSpPr/>
          <p:nvPr/>
        </p:nvSpPr>
        <p:spPr>
          <a:xfrm flipH="1">
            <a:off x="3048120" y="2895480"/>
            <a:ext cx="129528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 flipH="1">
            <a:off x="1143000" y="2971800"/>
            <a:ext cx="312408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4419720" y="2971800"/>
            <a:ext cx="304776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981080" y="5752800"/>
            <a:ext cx="5029200" cy="5796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тил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ть нужный тип стиля и задать соответствующую команд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1295280" y="4419720"/>
            <a:ext cx="320040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2895480" y="4267080"/>
            <a:ext cx="1600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3"/>
          <p:cNvSpPr/>
          <p:nvPr/>
        </p:nvSpPr>
        <p:spPr>
          <a:xfrm flipH="1">
            <a:off x="4495680" y="4267080"/>
            <a:ext cx="457200" cy="1447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4"/>
          <p:cNvSpPr/>
          <p:nvPr/>
        </p:nvSpPr>
        <p:spPr>
          <a:xfrm flipH="1">
            <a:off x="4572000" y="4267080"/>
            <a:ext cx="2743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то такое текстовый редактор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ие основные функции текстового редактор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Что такое редактирование текст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то такое форматирование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В чем отличие форматов текстовых файлов TXT, RTF, DO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Прямоугольник 5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68000" y="1267920"/>
            <a:ext cx="8351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ть, что такое текстовые редакторы и процессоры, основные понятия, используемые при редактировании и форматировании текстовых докумен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ащимся, имеющим компьютеры дома, продолжить осваивать «слепой десятипальцевый метод печати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.Дополнительное задание: узнать, какие текстовые редакторы имеются у вас до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79440" y="1833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2773440"/>
            <a:ext cx="5479920" cy="15667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4" descr=""/>
          <p:cNvPicPr/>
          <p:nvPr/>
        </p:nvPicPr>
        <p:blipFill>
          <a:blip r:embed="rId2"/>
          <a:stretch/>
        </p:blipFill>
        <p:spPr>
          <a:xfrm>
            <a:off x="646200" y="1487520"/>
            <a:ext cx="78580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759040" y="28288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ъек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260280"/>
            <a:ext cx="20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197000"/>
            <a:ext cx="222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екст (фраг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2997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37893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276720" y="126828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27280" y="530064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Фор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948360" y="328464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ак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356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b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стран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733920" y="3733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строенные объе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33336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Шабл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724360" y="465300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1"/>
          <a:srcRect l="3104" t="56328" r="86503" b="28346"/>
          <a:stretch/>
        </p:blipFill>
        <p:spPr>
          <a:xfrm>
            <a:off x="6140520" y="4508640"/>
            <a:ext cx="1547640" cy="171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7164360" y="4292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-100440"/>
            <a:ext cx="798984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леченный в письменную форму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достоверяющий наличие фактов определенного зна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зафиксированная на каком-либо материальном носителе человеческая мысль; в общем плане связная и полная последовательность симво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зображение на плоскости, созданное средствами граф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 это структура данных, обычно массив, используемая с целью заменить вычисления на операцию простого пои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троенные объек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 – это сложная сущность, способная хранить сразу несколько значений разных тип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ьные области для обработки данных, а также для создания соста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коман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ил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 программный алгоритм действий, записанный пользователем. Часто макросы применяют для выполнения рутинных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 взаимное расположение границ (контуров) предмета, объекта, а также взаимное расположение точек ли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иль абзацев и стиль символов. Сти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 это совокупность параметров форматирования, которой дано и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8"/>
          <p:cNvSpPr/>
          <p:nvPr/>
        </p:nvSpPr>
        <p:spPr>
          <a:xfrm>
            <a:off x="2590920" y="8380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 указанием папки и имени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666880" y="33526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несколько версий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90920" y="198108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од тем же имен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1981080" y="1371600"/>
            <a:ext cx="60984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410080" y="2018160"/>
            <a:ext cx="29718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1905120" y="457200"/>
            <a:ext cx="609480" cy="2286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905120" y="3124080"/>
            <a:ext cx="68580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981080" y="3200400"/>
            <a:ext cx="5335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1905120" y="3124080"/>
            <a:ext cx="761760" cy="1600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828800" y="3124080"/>
            <a:ext cx="83808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334120" y="265680"/>
            <a:ext cx="28954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2666880" y="2819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410080" y="278028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5334120" y="95148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ка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5410080" y="331344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верс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743200" y="639756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5486400" y="6422040"/>
            <a:ext cx="28195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4"/>
          <p:cNvSpPr/>
          <p:nvPr/>
        </p:nvSpPr>
        <p:spPr>
          <a:xfrm flipV="1">
            <a:off x="1905120" y="2362320"/>
            <a:ext cx="60948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2743200" y="44956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2743200" y="556272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щи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334120" y="4989960"/>
            <a:ext cx="358128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досту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5334120" y="43041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стран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1828800" y="3200400"/>
            <a:ext cx="914400" cy="33526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228600" y="25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Доку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7" descr=""/>
          <p:cNvPicPr/>
          <p:nvPr/>
        </p:nvPicPr>
        <p:blipFill>
          <a:blip r:embed="rId1"/>
          <a:srcRect l="2107" t="60202" r="87688" b="28611"/>
          <a:stretch/>
        </p:blipFill>
        <p:spPr>
          <a:xfrm>
            <a:off x="324000" y="508464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9"/>
          <p:cNvSpPr/>
          <p:nvPr/>
        </p:nvSpPr>
        <p:spPr>
          <a:xfrm>
            <a:off x="324000" y="465300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1905120" y="1599840"/>
            <a:ext cx="609480" cy="12193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666880" y="33498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66880" y="38829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йти и 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90920" y="251136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реме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410080" y="23166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1752480" y="533160"/>
            <a:ext cx="838440" cy="23619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828800" y="2971800"/>
            <a:ext cx="914400" cy="609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981080" y="3200400"/>
            <a:ext cx="68580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905120" y="3124080"/>
            <a:ext cx="838080" cy="2210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828800" y="3124080"/>
            <a:ext cx="838080" cy="3353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257800" y="341640"/>
            <a:ext cx="28954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 все (или мышко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410080" y="33105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чи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590920" y="13683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5334120" y="14022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410080" y="37645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й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7"/>
          <p:cNvSpPr/>
          <p:nvPr/>
        </p:nvSpPr>
        <p:spPr>
          <a:xfrm flipV="1">
            <a:off x="1905120" y="2666520"/>
            <a:ext cx="685800" cy="228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2819520" y="47242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 (форматироват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743200" y="6093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5334120" y="60537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334120" y="4758120"/>
            <a:ext cx="358128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Абза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0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1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 flipV="1">
            <a:off x="1828800" y="1066680"/>
            <a:ext cx="685800" cy="1905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2666880"/>
            <a:ext cx="23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Рису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90920" y="190512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334120" y="1942200"/>
            <a:ext cx="297180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Один щелчок мыш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1828800" y="2666520"/>
            <a:ext cx="685800" cy="3812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1676520" y="304812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1752480" y="3124080"/>
            <a:ext cx="9144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828800" y="3124080"/>
            <a:ext cx="762120" cy="1828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рис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181480" y="37080"/>
            <a:ext cx="350532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10080" y="24753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25146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181480" y="998280"/>
            <a:ext cx="350532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артинки (или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410080" y="308196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раз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рису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5334120" y="4151880"/>
            <a:ext cx="358128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ередвинуть границы мыш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0" y="20876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2743200" y="54100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анель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Настройка изображения,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нопка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рез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1752480" y="3048120"/>
            <a:ext cx="914400" cy="2438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ъединить рису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257800" y="613872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Группиро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Груп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4"/>
          <p:cNvSpPr/>
          <p:nvPr/>
        </p:nvSpPr>
        <p:spPr>
          <a:xfrm>
            <a:off x="1676520" y="3048120"/>
            <a:ext cx="1066680" cy="3429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0" y="4952880"/>
            <a:ext cx="213372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ложение рисун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0" y="5981400"/>
            <a:ext cx="2438280" cy="5796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оряд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7"/>
          <p:cNvSpPr/>
          <p:nvPr/>
        </p:nvSpPr>
        <p:spPr>
          <a:xfrm flipH="1">
            <a:off x="1219320" y="3048120"/>
            <a:ext cx="45720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3"/>
          <p:cNvSpPr/>
          <p:nvPr/>
        </p:nvSpPr>
        <p:spPr>
          <a:xfrm flipV="1">
            <a:off x="1828800" y="1484280"/>
            <a:ext cx="582480" cy="1487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56000" y="1844640"/>
            <a:ext cx="251460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обавить (Удалить) яче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484360" y="29242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1828800" y="3048120"/>
            <a:ext cx="582480" cy="20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1676520" y="3048120"/>
            <a:ext cx="1095120" cy="110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1752480" y="3124080"/>
            <a:ext cx="947880" cy="196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1828800" y="3124080"/>
            <a:ext cx="7984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05520" y="0"/>
            <a:ext cx="350496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обав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Таблицу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рисовать таблиц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8360" y="1628640"/>
            <a:ext cx="3600360" cy="1097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;Таблица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Добавить (Удалить)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Строки, столбцы, ячейк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484360" y="105264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076720" y="1163160"/>
            <a:ext cx="37339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бра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5148360" y="29581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5334120" y="413748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743200" y="54100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реобразовать таблицу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у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1752480" y="3048120"/>
            <a:ext cx="947880" cy="3549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ртировка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257800" y="629100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ортир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8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3"/>
          <p:cNvSpPr/>
          <p:nvPr/>
        </p:nvSpPr>
        <p:spPr>
          <a:xfrm flipV="1">
            <a:off x="1676520" y="1752480"/>
            <a:ext cx="76176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90920" y="34290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у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666880" y="44956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666880" y="2514600"/>
            <a:ext cx="2590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1600200" y="304560"/>
            <a:ext cx="99072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752480" y="2209680"/>
            <a:ext cx="76212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600200" y="2895480"/>
            <a:ext cx="99072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1676520" y="2971800"/>
            <a:ext cx="99036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Фигурный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05520" y="0"/>
            <a:ext cx="3504960" cy="1378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410080" y="2323080"/>
            <a:ext cx="289584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514600" y="1676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исунок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5105520" y="1714320"/>
            <a:ext cx="37335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5410080" y="3008520"/>
            <a:ext cx="297180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2743200" y="5715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рганизационная стру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334120" y="441288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0" y="219384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строенные объек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1600200" y="2895480"/>
            <a:ext cx="1066680" cy="3124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5334120" y="57528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S Organization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3"/>
          <p:cNvSpPr/>
          <p:nvPr/>
        </p:nvSpPr>
        <p:spPr>
          <a:xfrm flipV="1">
            <a:off x="1371600" y="761760"/>
            <a:ext cx="1219320" cy="2057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46240" y="2616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90920" y="2133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90920" y="1066680"/>
            <a:ext cx="2590560" cy="9475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(таблиц, рисунков, формул и т.п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295280" y="304560"/>
            <a:ext cx="129564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 flipV="1">
            <a:off x="1447920" y="2361960"/>
            <a:ext cx="106668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1523880" y="3124080"/>
            <a:ext cx="9907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1523880" y="3124080"/>
            <a:ext cx="114300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105520" y="0"/>
            <a:ext cx="35049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5334120" y="1942920"/>
            <a:ext cx="33526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рекрестная ссыл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590920" y="533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257800" y="1409400"/>
            <a:ext cx="342900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410080" y="2856600"/>
            <a:ext cx="32767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лонтит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1371600" y="1600200"/>
            <a:ext cx="121932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743200" y="35812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334120" y="40755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Оглавление и указ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410080" y="3542400"/>
            <a:ext cx="34290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но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2666880" y="4724280"/>
            <a:ext cx="243864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сли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5334120" y="491472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9"/>
          <p:cNvSpPr/>
          <p:nvPr/>
        </p:nvSpPr>
        <p:spPr>
          <a:xfrm>
            <a:off x="1523880" y="3124080"/>
            <a:ext cx="11430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2666880" y="5257800"/>
            <a:ext cx="2362320" cy="122184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форм (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Поле текста, Поле со списком, Флажок, Переключател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5257800" y="5447880"/>
            <a:ext cx="358128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2"/>
          <p:cNvSpPr/>
          <p:nvPr/>
        </p:nvSpPr>
        <p:spPr>
          <a:xfrm>
            <a:off x="1447920" y="3048120"/>
            <a:ext cx="114300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5257800" y="609480"/>
            <a:ext cx="35053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2590920" y="274320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в колонтиту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8"/>
          <p:cNvSpPr/>
          <p:nvPr/>
        </p:nvSpPr>
        <p:spPr>
          <a:xfrm>
            <a:off x="1371600" y="3048120"/>
            <a:ext cx="1295280" cy="2971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5:10:22Z</dcterms:created>
  <dc:creator>класс</dc:creator>
  <dc:description/>
  <dc:language>en-US</dc:language>
  <cp:lastModifiedBy>Ольга</cp:lastModifiedBy>
  <dcterms:modified xsi:type="dcterms:W3CDTF">2015-04-26T10:35:40Z</dcterms:modified>
  <cp:revision>31</cp:revision>
  <dc:subject/>
  <dc:title>Презентация PowerPoint</dc:title>
</cp:coreProperties>
</file>