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DC07-B80D-4E23-97E6-D33C0349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BF07-355B-4E1A-AD43-EF6A5DB7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0C51-1EDC-4BA1-8B77-8DDE047D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9FBE-26BD-4971-89B3-1693E38C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24ED-17C8-48B5-B39D-3AE1F4EA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011F-3B07-4AE1-948C-322CF220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1910-B506-441C-A267-655BE4AE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1017-ADE2-418F-8175-7F759B5B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FE7A-FE36-44B9-8924-5C57E894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ACD0-D321-412A-8E39-6CA7A4FE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EF5E-1EFC-4770-8E56-A05AA2CD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A4EF-82A4-4A81-A624-BBF35207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AABA-29F1-46B4-8595-970E3FB9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CB54-FC2C-4E77-BB1E-FE114A44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7C31-FBCF-4743-A82F-CE62C14A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9530-C2D4-4C7A-B020-C249D1BE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990F-F75F-4EBF-8C92-55F5EA1C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C4AE9-2569-4918-9524-B631D100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AA887-55FE-4EE5-8B6C-ECE6693E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DC6BD-3EDC-457F-AE1A-81614EA0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95FA6-9EC1-4109-A2BC-A38BEF7E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0DD0B-E807-4006-902A-66DCBDE1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8DF1-83C1-4AD4-A2EB-6E3AC02D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4521C-6024-4FD9-8058-40B93EA0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A8364-625D-44CD-85E1-34DA1889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D0FF9-FA14-4F48-8314-8E129967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42423-2B4A-4807-AFCF-BD4BCCF6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3C774-B208-4B5D-840C-DFA0ADB5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9B4AF-028C-4039-B004-31FCE73B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B8FCC-AF6F-4608-9749-A36093D2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DDDE0-41D8-41D4-9C7E-E8E297A0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0C597-282A-492D-A59D-88ADE783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676AE-53EB-4412-85D6-401B8E06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6902-53E7-4274-8B5D-E50A9099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4FCBE-9516-4FA7-8382-1B08BF5C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88B9A-AF30-4A1F-B745-23DB8A98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30400-4AD0-46EA-A8CE-BC0338D0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4BC33-3485-4BFD-8038-E38178CB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FE692-B22D-4184-AC4E-05613A61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5B220-541E-4BD4-8544-BDB12BB7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257DC-1E6D-4052-AD32-4399396D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ADCFF-B57C-41D1-92FF-D6F3A056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3972A-E105-4201-8BDD-6A3E3D37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670C-413B-491D-BB1F-66ACDACA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7C3B-66CA-4AC5-835A-96561F53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DBC1-B53D-4409-A6D4-E7950322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8B34-7DCC-4E74-9406-91E87860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4113-89D8-484E-A0D8-A8FB1D04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39F1-12A2-43CD-88FF-36C5BEB5A8B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C8A1-E27B-44FA-B083-DDE64EF45C1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8C0B-AE28-44AA-9110-9A204AAC07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BBAD-3B68-4335-BE20-E8023AEF5F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lef.ru/data/catalog/products/12110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12.nnm.ru/0/3/6/5/6/03656d11aa0199a967aa267a67844f6c_ful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2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98600" cy="2905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590920" y="1676520"/>
            <a:ext cx="3771720" cy="2119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613560" y="3886200"/>
            <a:ext cx="2389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3927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з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т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ди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29200" y="609120"/>
            <a:ext cx="3124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з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т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д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763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8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85480" y="1143000"/>
            <a:ext cx="24001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ов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бли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е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ёг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креп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и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о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с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6072120" y="1143000"/>
            <a:ext cx="271476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кре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сла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ё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ла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бл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е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-104760" y="142920"/>
            <a:ext cx="36493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aeaea"/>
                </a:solidFill>
                <a:latin typeface="Franklin Gothic Book"/>
              </a:rPr>
              <a:t>Работа в парах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72" name="Прямая со стрелкой 6"/>
          <p:cNvCxnSpPr/>
          <p:nvPr/>
        </p:nvCxnSpPr>
        <p:spPr>
          <a:xfrm flipH="1" flipV="1">
            <a:off x="1571040" y="1428480"/>
            <a:ext cx="4429800" cy="17150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3" name="Прямая со стрелкой 9"/>
          <p:cNvCxnSpPr/>
          <p:nvPr/>
        </p:nvCxnSpPr>
        <p:spPr>
          <a:xfrm flipH="1" flipV="1">
            <a:off x="1785600" y="1999440"/>
            <a:ext cx="4215600" cy="2786760"/>
          </a:xfrm>
          <a:prstGeom prst="straightConnector1">
            <a:avLst/>
          </a:prstGeom>
          <a:ln w="3492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74" name="Прямая со стрелкой 11"/>
          <p:cNvCxnSpPr/>
          <p:nvPr/>
        </p:nvCxnSpPr>
        <p:spPr>
          <a:xfrm flipH="1" flipV="1">
            <a:off x="1928520" y="2571480"/>
            <a:ext cx="4001040" cy="2715120"/>
          </a:xfrm>
          <a:prstGeom prst="straightConnector1">
            <a:avLst/>
          </a:prstGeom>
          <a:ln w="349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75" name="Прямая со стрелкой 13"/>
          <p:cNvCxnSpPr/>
          <p:nvPr/>
        </p:nvCxnSpPr>
        <p:spPr>
          <a:xfrm flipH="1" flipV="1">
            <a:off x="1714320" y="3142440"/>
            <a:ext cx="4214880" cy="278676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76" name="Прямая со стрелкой 15"/>
          <p:cNvCxnSpPr/>
          <p:nvPr/>
        </p:nvCxnSpPr>
        <p:spPr>
          <a:xfrm flipH="1" flipV="1">
            <a:off x="1714320" y="3642480"/>
            <a:ext cx="4143600" cy="500760"/>
          </a:xfrm>
          <a:prstGeom prst="straightConnector1">
            <a:avLst/>
          </a:prstGeom>
          <a:ln w="3492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277" name="Прямая со стрелкой 17"/>
          <p:cNvCxnSpPr/>
          <p:nvPr/>
        </p:nvCxnSpPr>
        <p:spPr>
          <a:xfrm flipH="1">
            <a:off x="1928160" y="3643200"/>
            <a:ext cx="4072680" cy="2286720"/>
          </a:xfrm>
          <a:prstGeom prst="straightConnector1">
            <a:avLst/>
          </a:prstGeom>
          <a:ln w="34920">
            <a:solidFill>
              <a:srgbClr val="ff3399"/>
            </a:solidFill>
            <a:miter/>
            <a:tailEnd len="med" type="arrow" w="med"/>
          </a:ln>
        </p:spPr>
      </p:cxnSp>
      <p:cxnSp>
        <p:nvCxnSpPr>
          <p:cNvPr id="278" name="Прямая со стрелкой 19"/>
          <p:cNvCxnSpPr/>
          <p:nvPr/>
        </p:nvCxnSpPr>
        <p:spPr>
          <a:xfrm flipH="1">
            <a:off x="1571400" y="1427760"/>
            <a:ext cx="4572720" cy="3429720"/>
          </a:xfrm>
          <a:prstGeom prst="straightConnector1">
            <a:avLst/>
          </a:prstGeom>
          <a:ln w="349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79" name="Прямая со стрелкой 21"/>
          <p:cNvCxnSpPr/>
          <p:nvPr/>
        </p:nvCxnSpPr>
        <p:spPr>
          <a:xfrm flipH="1">
            <a:off x="1714320" y="2071800"/>
            <a:ext cx="4358160" cy="328680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80" name="Прямая со стрелкой 24"/>
          <p:cNvCxnSpPr/>
          <p:nvPr/>
        </p:nvCxnSpPr>
        <p:spPr>
          <a:xfrm flipH="1">
            <a:off x="1928520" y="2571840"/>
            <a:ext cx="4143600" cy="1643760"/>
          </a:xfrm>
          <a:prstGeom prst="straightConnector1">
            <a:avLst/>
          </a:prstGeom>
          <a:ln w="34920">
            <a:solidFill>
              <a:srgbClr val="eaeaea"/>
            </a:solidFill>
            <a:miter/>
            <a:tailEnd len="med" type="arrow" w="med"/>
          </a:ln>
        </p:spPr>
      </p:cxnSp>
      <p:sp>
        <p:nvSpPr>
          <p:cNvPr id="281" name="TextBox 36"/>
          <p:cNvSpPr/>
          <p:nvPr/>
        </p:nvSpPr>
        <p:spPr>
          <a:xfrm>
            <a:off x="6572160" y="92880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TextBox 37"/>
          <p:cNvSpPr/>
          <p:nvPr/>
        </p:nvSpPr>
        <p:spPr>
          <a:xfrm>
            <a:off x="6643800" y="150984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TextBox 38"/>
          <p:cNvSpPr/>
          <p:nvPr/>
        </p:nvSpPr>
        <p:spPr>
          <a:xfrm>
            <a:off x="6858000" y="192888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п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TextBox 39"/>
          <p:cNvSpPr/>
          <p:nvPr/>
        </p:nvSpPr>
        <p:spPr>
          <a:xfrm>
            <a:off x="6858000" y="3000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TextBox 40"/>
          <p:cNvSpPr/>
          <p:nvPr/>
        </p:nvSpPr>
        <p:spPr>
          <a:xfrm>
            <a:off x="6715080" y="3719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г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TextBox 41"/>
          <p:cNvSpPr/>
          <p:nvPr/>
        </p:nvSpPr>
        <p:spPr>
          <a:xfrm>
            <a:off x="6715080" y="4219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TextBox 42"/>
          <p:cNvSpPr/>
          <p:nvPr/>
        </p:nvSpPr>
        <p:spPr>
          <a:xfrm>
            <a:off x="6858000" y="4791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TextBox 43"/>
          <p:cNvSpPr/>
          <p:nvPr/>
        </p:nvSpPr>
        <p:spPr>
          <a:xfrm>
            <a:off x="6572160" y="5362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TextBox 44"/>
          <p:cNvSpPr/>
          <p:nvPr/>
        </p:nvSpPr>
        <p:spPr>
          <a:xfrm>
            <a:off x="6572160" y="2576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в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Выноска-облако 5"/>
          <p:cNvSpPr/>
          <p:nvPr/>
        </p:nvSpPr>
        <p:spPr>
          <a:xfrm flipH="1">
            <a:off x="178560" y="476280"/>
            <a:ext cx="5357880" cy="1214280"/>
          </a:xfrm>
          <a:prstGeom prst="cloudCallout">
            <a:avLst>
              <a:gd name="adj1" fmla="val -61879"/>
              <a:gd name="adj2" fmla="val 24375"/>
            </a:avLst>
          </a:prstGeom>
          <a:solidFill>
            <a:srgbClr val="c6d9f1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БЕРИ СИНОНИМ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TextBox 6"/>
          <p:cNvSpPr/>
          <p:nvPr/>
        </p:nvSpPr>
        <p:spPr>
          <a:xfrm>
            <a:off x="571680" y="2357280"/>
            <a:ext cx="2786040" cy="283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ищ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шеб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6072120" y="2357280"/>
            <a:ext cx="2286000" cy="2837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93" name="Прямая со стрелкой 9"/>
          <p:cNvCxnSpPr/>
          <p:nvPr/>
        </p:nvCxnSpPr>
        <p:spPr>
          <a:xfrm>
            <a:off x="2857320" y="2714400"/>
            <a:ext cx="385812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4" name="Прямая со стрелкой 10"/>
          <p:cNvCxnSpPr/>
          <p:nvPr/>
        </p:nvCxnSpPr>
        <p:spPr>
          <a:xfrm>
            <a:off x="3000240" y="3286080"/>
            <a:ext cx="3858480" cy="5724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5" name="Прямая со стрелкой 11"/>
          <p:cNvCxnSpPr/>
          <p:nvPr/>
        </p:nvCxnSpPr>
        <p:spPr>
          <a:xfrm flipV="1">
            <a:off x="2714760" y="2714040"/>
            <a:ext cx="3929760" cy="114372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6" name="Прямая со стрелкой 13"/>
          <p:cNvCxnSpPr/>
          <p:nvPr/>
        </p:nvCxnSpPr>
        <p:spPr>
          <a:xfrm>
            <a:off x="2500200" y="4357440"/>
            <a:ext cx="385848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7" name="Прямая со стрелкой 14"/>
          <p:cNvCxnSpPr/>
          <p:nvPr/>
        </p:nvCxnSpPr>
        <p:spPr>
          <a:xfrm flipV="1">
            <a:off x="3000240" y="4357080"/>
            <a:ext cx="392976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pic>
        <p:nvPicPr>
          <p:cNvPr id="298" name="" descr="Картинка 27 из 8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260280"/>
            <a:ext cx="2970360" cy="19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11160" y="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4" descr=""/>
          <p:cNvPicPr/>
          <p:nvPr/>
        </p:nvPicPr>
        <p:blipFill>
          <a:blip r:embed="rId2"/>
          <a:stretch/>
        </p:blipFill>
        <p:spPr>
          <a:xfrm>
            <a:off x="3508200" y="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1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94444E-006 -0.06564 C 0.23455 -0.06564 0.42552 0.12456 0.42552 0.35983 C 0.42552 0.5944 0.23455 0.78622 1.94444E-006 0.78622 C -0.23455 0.78622 -0.425 0.5944 -0.425 0.35983 C -0.425 0.12456 -0.23455 -0.06564 1.94444E-006 -0.06564 Z">
                                      <p:cBhvr>
                                        <p:cTn id="395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66667E-006 -0.06563 L 0.47726 0.3113 L 0.03437 0.76011 L -0.4441 0.37971 L 1.66667E-006 -0.06563 Z">
                                      <p:cBhvr>
                                        <p:cTn id="399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5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38889E-006 -0.06563 C -0.27031 -0.08135 -0.50312 0.09244 -0.51927 0.32239 C -0.54045 0.54264 -0.35833 0.74902 -0.09722 0.76288 C 0.14549 0.77698 0.37014 0.63624 0.38507 0.42963 C 0.39462 0.23989 0.24913 0.06078 0.02396 0.04784 C -0.18212 0.0342 -0.3743 0.15392 -0.39097 0.32886 C -0.40312 0.49133 -0.2783 0.64294 -0.08802 0.65334 C 0.08108 0.66258 0.24566 0.56667 0.25347 0.42339 C 0.26597 0.29119 0.16875 0.16755 0.0158 0.15761 C -0.12083 0.15184 -0.25469 0.22371 -0.26215 0.33626 C -0.26996 0.43656 -0.19774 0.53547 -0.0809 0.54264 C 0.01997 0.5498 0.11563 0.49804 0.12448 0.41507 C 0.13299 0.34666 0.0882 0.27317 0.00799 0.27086 C -0.05642 0.26415 -0.12604 0.29166 -0.13333 0.34342 C -0.13298 0.38502 -0.11614 0.42593 -0.07361 0.43286 C -0.04496 0.43656 -0.01545 0.4294 -0.00347 0.40952 C -1.38889000000008E-006 0.39866 -0.00069 0.39149 -0.00347 0.38017 E">
                                      <p:cBhvr>
                                        <p:cTn id="403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А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е лёгкое, на знание и применение правил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Б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я, где надо подума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С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 творческое задани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амопроверк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627280" y="2854440"/>
          <a:ext cx="4038480" cy="3017520"/>
        </p:xfrm>
        <a:graphic>
          <a:graphicData uri="http://schemas.openxmlformats.org/drawingml/2006/table">
            <a:tbl>
              <a:tblPr/>
              <a:tblGrid>
                <a:gridCol w="380880"/>
                <a:gridCol w="382680"/>
                <a:gridCol w="425520"/>
                <a:gridCol w="507960"/>
                <a:gridCol w="509400"/>
                <a:gridCol w="468360"/>
                <a:gridCol w="423720"/>
                <a:gridCol w="424080"/>
                <a:gridCol w="515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30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30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31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31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31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Картинка 19 из 266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762120"/>
            <a:ext cx="7308720" cy="54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319" name="Овал 2"/>
          <p:cNvSpPr/>
          <p:nvPr/>
        </p:nvSpPr>
        <p:spPr>
          <a:xfrm>
            <a:off x="1403280" y="448452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Овал 3"/>
          <p:cNvSpPr/>
          <p:nvPr/>
        </p:nvSpPr>
        <p:spPr>
          <a:xfrm>
            <a:off x="1403280" y="291312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Овал 4"/>
          <p:cNvSpPr/>
          <p:nvPr/>
        </p:nvSpPr>
        <p:spPr>
          <a:xfrm>
            <a:off x="1403280" y="1341360"/>
            <a:ext cx="914400" cy="914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22" name="Скругленный прямоугольник 5"/>
          <p:cNvGrpSpPr/>
          <p:nvPr/>
        </p:nvGrpSpPr>
        <p:grpSpPr>
          <a:xfrm>
            <a:off x="3103560" y="1523880"/>
            <a:ext cx="3436920" cy="755640"/>
            <a:chOff x="3103560" y="1523880"/>
            <a:chExt cx="3436920" cy="755640"/>
          </a:xfrm>
        </p:grpSpPr>
        <p:pic>
          <p:nvPicPr>
            <p:cNvPr id="32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103560" y="1523880"/>
              <a:ext cx="3436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3165480" y="1590840"/>
              <a:ext cx="33163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Мне  всё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5" name="Скругленный прямоугольник 6"/>
          <p:cNvGrpSpPr/>
          <p:nvPr/>
        </p:nvGrpSpPr>
        <p:grpSpPr>
          <a:xfrm>
            <a:off x="3103560" y="2895480"/>
            <a:ext cx="5095800" cy="1067040"/>
            <a:chOff x="3103560" y="2895480"/>
            <a:chExt cx="5095800" cy="1067040"/>
          </a:xfrm>
        </p:grpSpPr>
        <p:pic>
          <p:nvPicPr>
            <p:cNvPr id="32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103560" y="2895480"/>
              <a:ext cx="50958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3181320" y="2975040"/>
              <a:ext cx="494208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Мне  понятно, но  надо  ещё  потренироваться</a:t>
              </a: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8" name="Скругленный прямоугольник 7"/>
          <p:cNvGrpSpPr/>
          <p:nvPr/>
        </p:nvGrpSpPr>
        <p:grpSpPr>
          <a:xfrm>
            <a:off x="3103560" y="4572000"/>
            <a:ext cx="3724200" cy="804960"/>
            <a:chOff x="3103560" y="4572000"/>
            <a:chExt cx="3724200" cy="804960"/>
          </a:xfrm>
        </p:grpSpPr>
        <p:pic>
          <p:nvPicPr>
            <p:cNvPr id="329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3103560" y="4572000"/>
              <a:ext cx="37242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168720" y="4641840"/>
              <a:ext cx="3598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Ничего  не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7315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Правописание парных глухих и звонких согласных в корне слова и на конце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21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21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22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22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22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онпк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жолка 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таркв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кноп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лож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трав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0" t="16159" r="0" b="18204"/>
          <a:stretch/>
        </p:blipFill>
        <p:spPr>
          <a:xfrm>
            <a:off x="0" y="698400"/>
            <a:ext cx="9144000" cy="6159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214200" y="-432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Минутка чистописания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rcRect l="69100" t="63002" r="25695" b="26151"/>
          <a:stretch/>
        </p:blipFill>
        <p:spPr>
          <a:xfrm>
            <a:off x="364320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3"/>
          <a:srcRect l="69100" t="63002" r="25695" b="26151"/>
          <a:stretch/>
        </p:blipFill>
        <p:spPr>
          <a:xfrm>
            <a:off x="40719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rcRect l="69100" t="63002" r="25695" b="26151"/>
          <a:stretch/>
        </p:blipFill>
        <p:spPr>
          <a:xfrm>
            <a:off x="4500720" y="5214960"/>
            <a:ext cx="428400" cy="714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5"/>
          <a:srcRect l="69100" t="63002" r="25695" b="26151"/>
          <a:stretch/>
        </p:blipFill>
        <p:spPr>
          <a:xfrm>
            <a:off x="49291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6"/>
          <a:srcRect l="69100" t="63002" r="25695" b="26151"/>
          <a:stretch/>
        </p:blipFill>
        <p:spPr>
          <a:xfrm>
            <a:off x="54291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7"/>
          <a:srcRect l="69100" t="63002" r="25695" b="26151"/>
          <a:stretch/>
        </p:blipFill>
        <p:spPr>
          <a:xfrm>
            <a:off x="58579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8"/>
          <a:srcRect l="39815" t="63526" r="55136" b="25431"/>
          <a:stretch/>
        </p:blipFill>
        <p:spPr>
          <a:xfrm>
            <a:off x="3664080" y="5214960"/>
            <a:ext cx="407880" cy="714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9"/>
          <a:srcRect l="43314" t="65109" r="50058" b="26605"/>
          <a:stretch/>
        </p:blipFill>
        <p:spPr>
          <a:xfrm>
            <a:off x="4000680" y="52862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10"/>
          <a:srcRect l="49119" t="64072" r="45082" b="26605"/>
          <a:stretch/>
        </p:blipFill>
        <p:spPr>
          <a:xfrm>
            <a:off x="4500720" y="5214960"/>
            <a:ext cx="500040" cy="642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11"/>
          <a:srcRect l="54091" t="64072" r="41766" b="26605"/>
          <a:stretch/>
        </p:blipFill>
        <p:spPr>
          <a:xfrm>
            <a:off x="5000760" y="5214960"/>
            <a:ext cx="357120" cy="642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12"/>
          <a:srcRect l="58237" t="64072" r="35137" b="26605"/>
          <a:stretch/>
        </p:blipFill>
        <p:spPr>
          <a:xfrm>
            <a:off x="5286240" y="5214960"/>
            <a:ext cx="571680" cy="642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13"/>
          <a:srcRect l="64065" t="64290" r="30469" b="27339"/>
          <a:stretch/>
        </p:blipFill>
        <p:spPr>
          <a:xfrm>
            <a:off x="5786280" y="5072040"/>
            <a:ext cx="50040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2-06T09:06:3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