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06FC-9EA8-4617-8875-6A9C6D21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1EB-BA37-4045-98A6-BB5CE565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FA26-534F-4763-AC54-8E0DE98A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16B3-1808-40A3-A4C2-9D926B8C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EB20-8A65-42C2-9922-32A3772D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35BC-FD19-4275-85AB-B8431B47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A98E-FE6D-4B53-A9B8-D5AF4D60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6D41-2BD9-4BEE-8710-BE802F1D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7B0B-6E6A-4D9E-9CFB-A3F707EE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1FA7-BA06-4B69-9342-1C62357A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6F7B-A5A3-41BE-8BFA-B7A17F13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3D9-F38F-4C5A-9CCB-3CD2AC6D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735C-F854-4047-80A1-C010D3C7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AFC3-8DFE-4F37-8826-86F03484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0D2A-1692-4724-874E-F14F106F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5177-0B8A-4744-9B2D-FDC55132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CB85-0BBF-41E8-904C-E3E4EB57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65E5C-7390-44B4-BC06-5D20613B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316B6-657F-4200-B9A7-ED73A9C7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58DB5-6840-4B2A-AC9A-315FD458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5AE7B-FF00-4D4B-ABBA-0F2B07EF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C367E-1AE1-43C9-B166-71B393E1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B38-82DA-4277-A323-9DB30A4D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ECC1C-5B4A-4F8B-9E73-08FCB306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E42DC-B17D-4094-B3C2-348A7437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4CEF5-3D8E-4DFE-9908-B71A947D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3EAC1-5A5E-4788-94F0-6C033483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A60FB-A006-424D-8B83-B26B2063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C7020-9721-4C85-AA7A-A385CA79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4E328-3E20-40E5-A453-8A34D66F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141F7-D4A1-4E43-859D-C89D5FB8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6CA4B-00A7-4165-869B-FBFA3388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1199D-C712-4C70-BA20-E6179199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C5F-8F21-4200-B93E-7FAD6C12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457EF-27C5-48A8-928E-20EB5639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A9FDE-E390-4CEA-BE90-65464ACD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A02A9-9741-45B5-85FA-8A5D0A25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ECCC0-9D8B-47CC-893E-E0196F72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E533D-62B5-42B0-BAF3-EB071FA7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AB2C0-ABA1-4428-946B-93A54684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97BB6-ED51-4A2A-864D-F29457AA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DC892-023D-42EB-A5D0-6CB653ED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BFE23-55EF-4260-8A73-07DEB8CE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ED79-9AD1-4AA5-AF63-2A631D73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842-E3DB-470F-9330-5DF35D65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0B45-C8F1-4FA7-9788-E53D0A3F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8008-7E17-4475-AE20-F074CFE2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8F4-59EC-455D-BE98-57C01AC9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DB13-2422-4419-AECB-EA5474F06F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A1F7-1229-4547-AA87-F8F62BF681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2F28-40D5-401B-B177-219246F96B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DBF9-4DB1-4DCE-86A8-0DA39EB09D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lef.ru/data/catalog/products/1211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2.nnm.ru/0/3/6/5/6/03656d11aa0199a967aa267a67844f6c_ful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98600" cy="2905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3771720" cy="21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613560" y="3886200"/>
            <a:ext cx="2389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927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з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т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ди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29200" y="609120"/>
            <a:ext cx="3124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з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т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8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480" y="1143000"/>
            <a:ext cx="2400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ов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бли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е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ёг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креп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и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о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с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6072120" y="1143000"/>
            <a:ext cx="271476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кре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сла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ё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ла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бл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е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-104760" y="142920"/>
            <a:ext cx="36493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Franklin Gothic Book"/>
              </a:rPr>
              <a:t>Работа в парах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72" name="Прямая со стрелкой 6"/>
          <p:cNvCxnSpPr/>
          <p:nvPr/>
        </p:nvCxnSpPr>
        <p:spPr>
          <a:xfrm flipH="1" flipV="1">
            <a:off x="1571040" y="1428480"/>
            <a:ext cx="4429800" cy="17150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3" name="Прямая со стрелкой 9"/>
          <p:cNvCxnSpPr/>
          <p:nvPr/>
        </p:nvCxnSpPr>
        <p:spPr>
          <a:xfrm flipH="1" flipV="1">
            <a:off x="1785600" y="1999440"/>
            <a:ext cx="4215600" cy="2786760"/>
          </a:xfrm>
          <a:prstGeom prst="straightConnector1">
            <a:avLst/>
          </a:prstGeom>
          <a:ln w="349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74" name="Прямая со стрелкой 11"/>
          <p:cNvCxnSpPr/>
          <p:nvPr/>
        </p:nvCxnSpPr>
        <p:spPr>
          <a:xfrm flipH="1" flipV="1">
            <a:off x="1928520" y="2571480"/>
            <a:ext cx="4001040" cy="27151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75" name="Прямая со стрелкой 13"/>
          <p:cNvCxnSpPr/>
          <p:nvPr/>
        </p:nvCxnSpPr>
        <p:spPr>
          <a:xfrm flipH="1" flipV="1">
            <a:off x="1714320" y="3142440"/>
            <a:ext cx="4214880" cy="278676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6" name="Прямая со стрелкой 15"/>
          <p:cNvCxnSpPr/>
          <p:nvPr/>
        </p:nvCxnSpPr>
        <p:spPr>
          <a:xfrm flipH="1" flipV="1">
            <a:off x="1714320" y="3642480"/>
            <a:ext cx="4143600" cy="50076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77" name="Прямая со стрелкой 17"/>
          <p:cNvCxnSpPr/>
          <p:nvPr/>
        </p:nvCxnSpPr>
        <p:spPr>
          <a:xfrm flipH="1">
            <a:off x="1928160" y="3643200"/>
            <a:ext cx="4072680" cy="2286720"/>
          </a:xfrm>
          <a:prstGeom prst="straightConnector1">
            <a:avLst/>
          </a:prstGeom>
          <a:ln w="34920">
            <a:solidFill>
              <a:srgbClr val="ff3399"/>
            </a:solidFill>
            <a:miter/>
            <a:tailEnd len="med" type="arrow" w="med"/>
          </a:ln>
        </p:spPr>
      </p:cxnSp>
      <p:cxnSp>
        <p:nvCxnSpPr>
          <p:cNvPr id="278" name="Прямая со стрелкой 19"/>
          <p:cNvCxnSpPr/>
          <p:nvPr/>
        </p:nvCxnSpPr>
        <p:spPr>
          <a:xfrm flipH="1">
            <a:off x="1571400" y="1427760"/>
            <a:ext cx="4572720" cy="3429720"/>
          </a:xfrm>
          <a:prstGeom prst="straightConnector1">
            <a:avLst/>
          </a:prstGeom>
          <a:ln w="349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79" name="Прямая со стрелкой 21"/>
          <p:cNvCxnSpPr/>
          <p:nvPr/>
        </p:nvCxnSpPr>
        <p:spPr>
          <a:xfrm flipH="1">
            <a:off x="1714320" y="2071800"/>
            <a:ext cx="4358160" cy="328680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80" name="Прямая со стрелкой 24"/>
          <p:cNvCxnSpPr/>
          <p:nvPr/>
        </p:nvCxnSpPr>
        <p:spPr>
          <a:xfrm flipH="1">
            <a:off x="1928520" y="2571840"/>
            <a:ext cx="4143600" cy="1643760"/>
          </a:xfrm>
          <a:prstGeom prst="straightConnector1">
            <a:avLst/>
          </a:prstGeom>
          <a:ln w="3492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281" name="TextBox 36"/>
          <p:cNvSpPr/>
          <p:nvPr/>
        </p:nvSpPr>
        <p:spPr>
          <a:xfrm>
            <a:off x="6572160" y="9288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TextBox 37"/>
          <p:cNvSpPr/>
          <p:nvPr/>
        </p:nvSpPr>
        <p:spPr>
          <a:xfrm>
            <a:off x="6643800" y="150984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TextBox 38"/>
          <p:cNvSpPr/>
          <p:nvPr/>
        </p:nvSpPr>
        <p:spPr>
          <a:xfrm>
            <a:off x="6858000" y="19288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п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TextBox 39"/>
          <p:cNvSpPr/>
          <p:nvPr/>
        </p:nvSpPr>
        <p:spPr>
          <a:xfrm>
            <a:off x="6858000" y="3000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TextBox 40"/>
          <p:cNvSpPr/>
          <p:nvPr/>
        </p:nvSpPr>
        <p:spPr>
          <a:xfrm>
            <a:off x="6715080" y="3719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г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TextBox 41"/>
          <p:cNvSpPr/>
          <p:nvPr/>
        </p:nvSpPr>
        <p:spPr>
          <a:xfrm>
            <a:off x="6715080" y="4219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TextBox 42"/>
          <p:cNvSpPr/>
          <p:nvPr/>
        </p:nvSpPr>
        <p:spPr>
          <a:xfrm>
            <a:off x="6858000" y="4791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Box 43"/>
          <p:cNvSpPr/>
          <p:nvPr/>
        </p:nvSpPr>
        <p:spPr>
          <a:xfrm>
            <a:off x="6572160" y="5362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TextBox 44"/>
          <p:cNvSpPr/>
          <p:nvPr/>
        </p:nvSpPr>
        <p:spPr>
          <a:xfrm>
            <a:off x="6572160" y="2576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в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Выноска-облако 5"/>
          <p:cNvSpPr/>
          <p:nvPr/>
        </p:nvSpPr>
        <p:spPr>
          <a:xfrm flipH="1">
            <a:off x="178560" y="476280"/>
            <a:ext cx="5357880" cy="1214280"/>
          </a:xfrm>
          <a:prstGeom prst="cloudCallout">
            <a:avLst>
              <a:gd name="adj1" fmla="val -61879"/>
              <a:gd name="adj2" fmla="val 24375"/>
            </a:avLst>
          </a:prstGeom>
          <a:solidFill>
            <a:srgbClr val="c6d9f1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ЕРИ СИНОНИМ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571680" y="2357280"/>
            <a:ext cx="2786040" cy="283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6072120" y="2357280"/>
            <a:ext cx="2286000" cy="283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93" name="Прямая со стрелкой 9"/>
          <p:cNvCxnSpPr/>
          <p:nvPr/>
        </p:nvCxnSpPr>
        <p:spPr>
          <a:xfrm>
            <a:off x="2857320" y="2714400"/>
            <a:ext cx="385812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4" name="Прямая со стрелкой 10"/>
          <p:cNvCxnSpPr/>
          <p:nvPr/>
        </p:nvCxnSpPr>
        <p:spPr>
          <a:xfrm>
            <a:off x="3000240" y="3286080"/>
            <a:ext cx="3858480" cy="5724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5" name="Прямая со стрелкой 11"/>
          <p:cNvCxnSpPr/>
          <p:nvPr/>
        </p:nvCxnSpPr>
        <p:spPr>
          <a:xfrm flipV="1">
            <a:off x="2714760" y="2714040"/>
            <a:ext cx="3929760" cy="11437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6" name="Прямая со стрелкой 13"/>
          <p:cNvCxnSpPr/>
          <p:nvPr/>
        </p:nvCxnSpPr>
        <p:spPr>
          <a:xfrm>
            <a:off x="2500200" y="4357440"/>
            <a:ext cx="385848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7" name="Прямая со стрелкой 14"/>
          <p:cNvCxnSpPr/>
          <p:nvPr/>
        </p:nvCxnSpPr>
        <p:spPr>
          <a:xfrm flipV="1">
            <a:off x="3000240" y="4357080"/>
            <a:ext cx="392976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pic>
        <p:nvPicPr>
          <p:cNvPr id="298" name="" descr="Картинка 27 из 8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260280"/>
            <a:ext cx="297036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"/>
          <p:cNvPicPr/>
          <p:nvPr/>
        </p:nvPicPr>
        <p:blipFill>
          <a:blip r:embed="rId2"/>
          <a:stretch/>
        </p:blipFill>
        <p:spPr>
          <a:xfrm>
            <a:off x="3508200" y="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1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94444E-006 -0.06564 C 0.23455 -0.06564 0.42552 0.12456 0.42552 0.35983 C 0.42552 0.5944 0.23455 0.78622 1.94444E-006 0.78622 C -0.23455 0.78622 -0.425 0.5944 -0.425 0.35983 C -0.425 0.12456 -0.23455 -0.06564 1.94444E-006 -0.06564 Z">
                                      <p:cBhvr>
                                        <p:cTn id="395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66667E-006 -0.06563 L 0.47726 0.3113 L 0.03437 0.76011 L -0.4441 0.37971 L 1.66667E-006 -0.06563 Z">
                                      <p:cBhvr>
                                        <p:cTn id="399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5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0.06563 C -0.27031 -0.08135 -0.50312 0.09244 -0.51927 0.32239 C -0.54045 0.54264 -0.35833 0.74902 -0.09722 0.76288 C 0.14549 0.77698 0.37014 0.63624 0.38507 0.42963 C 0.39462 0.23989 0.24913 0.06078 0.02396 0.04784 C -0.18212 0.0342 -0.3743 0.15392 -0.39097 0.32886 C -0.40312 0.49133 -0.2783 0.64294 -0.08802 0.65334 C 0.08108 0.66258 0.24566 0.56667 0.25347 0.42339 C 0.26597 0.29119 0.16875 0.16755 0.0158 0.15761 C -0.12083 0.15184 -0.25469 0.22371 -0.26215 0.33626 C -0.26996 0.43656 -0.19774 0.53547 -0.0809 0.54264 C 0.01997 0.5498 0.11563 0.49804 0.12448 0.41507 C 0.13299 0.34666 0.0882 0.27317 0.00799 0.27086 C -0.05642 0.26415 -0.12604 0.29166 -0.13333 0.34342 C -0.13298 0.38502 -0.11614 0.42593 -0.07361 0.43286 C -0.04496 0.43656 -0.01545 0.4294 -0.00347 0.40952 C -1.38889000000008E-006 0.39866 -0.00069 0.39149 -0.00347 0.38017 E">
                                      <p:cBhvr>
                                        <p:cTn id="403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е лёгкое, на знание и применение прави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Б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я, где надо подума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С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творческое зада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амопровер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627280" y="2854440"/>
          <a:ext cx="4038480" cy="3017520"/>
        </p:xfrm>
        <a:graphic>
          <a:graphicData uri="http://schemas.openxmlformats.org/drawingml/2006/table">
            <a:tbl>
              <a:tblPr/>
              <a:tblGrid>
                <a:gridCol w="380880"/>
                <a:gridCol w="382680"/>
                <a:gridCol w="425520"/>
                <a:gridCol w="507960"/>
                <a:gridCol w="509400"/>
                <a:gridCol w="468360"/>
                <a:gridCol w="423720"/>
                <a:gridCol w="424080"/>
                <a:gridCol w="51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30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3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31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31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31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Картинка 19 из 26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62120"/>
            <a:ext cx="730872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19" name="Овал 2"/>
          <p:cNvSpPr/>
          <p:nvPr/>
        </p:nvSpPr>
        <p:spPr>
          <a:xfrm>
            <a:off x="1403280" y="44845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3"/>
          <p:cNvSpPr/>
          <p:nvPr/>
        </p:nvSpPr>
        <p:spPr>
          <a:xfrm>
            <a:off x="1403280" y="291312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4"/>
          <p:cNvSpPr/>
          <p:nvPr/>
        </p:nvSpPr>
        <p:spPr>
          <a:xfrm>
            <a:off x="1403280" y="134136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22" name="Скругленный прямоугольник 5"/>
          <p:cNvGrpSpPr/>
          <p:nvPr/>
        </p:nvGrpSpPr>
        <p:grpSpPr>
          <a:xfrm>
            <a:off x="3103560" y="1523880"/>
            <a:ext cx="3436920" cy="755640"/>
            <a:chOff x="3103560" y="1523880"/>
            <a:chExt cx="3436920" cy="755640"/>
          </a:xfrm>
        </p:grpSpPr>
        <p:pic>
          <p:nvPicPr>
            <p:cNvPr id="32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103560" y="1523880"/>
              <a:ext cx="343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165480" y="1590840"/>
              <a:ext cx="33163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Мне  всё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Скругленный прямоугольник 6"/>
          <p:cNvGrpSpPr/>
          <p:nvPr/>
        </p:nvGrpSpPr>
        <p:grpSpPr>
          <a:xfrm>
            <a:off x="3103560" y="2895480"/>
            <a:ext cx="5095800" cy="1067040"/>
            <a:chOff x="3103560" y="2895480"/>
            <a:chExt cx="5095800" cy="1067040"/>
          </a:xfrm>
        </p:grpSpPr>
        <p:pic>
          <p:nvPicPr>
            <p:cNvPr id="32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03560" y="2895480"/>
              <a:ext cx="50958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181320" y="2975040"/>
              <a:ext cx="49420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Мне  понятно, но  надо  ещё  потренироваться</a:t>
              </a: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Скругленный прямоугольник 7"/>
          <p:cNvGrpSpPr/>
          <p:nvPr/>
        </p:nvGrpSpPr>
        <p:grpSpPr>
          <a:xfrm>
            <a:off x="3103560" y="4572000"/>
            <a:ext cx="3724200" cy="804960"/>
            <a:chOff x="3103560" y="4572000"/>
            <a:chExt cx="3724200" cy="804960"/>
          </a:xfrm>
        </p:grpSpPr>
        <p:pic>
          <p:nvPicPr>
            <p:cNvPr id="32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103560" y="4572000"/>
              <a:ext cx="37242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168720" y="4641840"/>
              <a:ext cx="359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ичего  не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7315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Правописание парных глухих и звонких согласных в корне слова и на конце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21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21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22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22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22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пк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жолка 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таркв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кноп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лож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трав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0" t="16159" r="0" b="18204"/>
          <a:stretch/>
        </p:blipFill>
        <p:spPr>
          <a:xfrm>
            <a:off x="0" y="69840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14200" y="-43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Минутка чистописания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rcRect l="69100" t="63002" r="25695" b="26151"/>
          <a:stretch/>
        </p:blipFill>
        <p:spPr>
          <a:xfrm>
            <a:off x="364320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3"/>
          <a:srcRect l="69100" t="63002" r="25695" b="26151"/>
          <a:stretch/>
        </p:blipFill>
        <p:spPr>
          <a:xfrm>
            <a:off x="40719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rcRect l="69100" t="63002" r="25695" b="26151"/>
          <a:stretch/>
        </p:blipFill>
        <p:spPr>
          <a:xfrm>
            <a:off x="4500720" y="5214960"/>
            <a:ext cx="428400" cy="71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5"/>
          <a:srcRect l="69100" t="63002" r="25695" b="26151"/>
          <a:stretch/>
        </p:blipFill>
        <p:spPr>
          <a:xfrm>
            <a:off x="49291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6"/>
          <a:srcRect l="69100" t="63002" r="25695" b="26151"/>
          <a:stretch/>
        </p:blipFill>
        <p:spPr>
          <a:xfrm>
            <a:off x="54291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7"/>
          <a:srcRect l="69100" t="63002" r="25695" b="26151"/>
          <a:stretch/>
        </p:blipFill>
        <p:spPr>
          <a:xfrm>
            <a:off x="58579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8"/>
          <a:srcRect l="39815" t="63526" r="55136" b="25431"/>
          <a:stretch/>
        </p:blipFill>
        <p:spPr>
          <a:xfrm>
            <a:off x="3664080" y="5214960"/>
            <a:ext cx="40788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9"/>
          <a:srcRect l="43314" t="65109" r="50058" b="26605"/>
          <a:stretch/>
        </p:blipFill>
        <p:spPr>
          <a:xfrm>
            <a:off x="4000680" y="52862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0"/>
          <a:srcRect l="49119" t="64072" r="45082" b="26605"/>
          <a:stretch/>
        </p:blipFill>
        <p:spPr>
          <a:xfrm>
            <a:off x="4500720" y="521496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11"/>
          <a:srcRect l="54091" t="64072" r="41766" b="26605"/>
          <a:stretch/>
        </p:blipFill>
        <p:spPr>
          <a:xfrm>
            <a:off x="5000760" y="5214960"/>
            <a:ext cx="357120" cy="642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12"/>
          <a:srcRect l="58237" t="64072" r="35137" b="26605"/>
          <a:stretch/>
        </p:blipFill>
        <p:spPr>
          <a:xfrm>
            <a:off x="5286240" y="5214960"/>
            <a:ext cx="571680" cy="642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13"/>
          <a:srcRect l="64065" t="64290" r="30469" b="27339"/>
          <a:stretch/>
        </p:blipFill>
        <p:spPr>
          <a:xfrm>
            <a:off x="5786280" y="5072040"/>
            <a:ext cx="50040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2-06T09:06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