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33D-ECD0-4EA6-A936-1C6DAAB2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AFC-0F2F-4A3B-B5DD-8824B486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F10-BC24-4327-8B65-CFF739B4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F06-657C-478A-AD36-4EF27668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ECA-B74C-4E03-AFEE-B7ECDFE3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BFE-F376-4C54-A2D1-3A4D5937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DA6-DAC3-4D95-8BD4-91EF6D1D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7F9-B86C-4911-85D2-095667F7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B86-853B-4C66-A673-F7726EFE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C7D-B328-43CF-B42D-36B65167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E05-EF67-4D61-A3EC-BF109352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C801-3554-4187-926D-7E484592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4836-18DE-4FC4-9D07-3FDC777CE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wall1264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116000" y="2205000"/>
            <a:ext cx="727236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Гидросфера.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троение гидросферы. Круговорот воды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860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мотрите карту полушарий и определите, что входит в состав гидросферы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9280" y="333360"/>
            <a:ext cx="81471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это водная оболочка зем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1835280" y="404640"/>
            <a:ext cx="597672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дросф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7"/>
          <p:cNvGrpSpPr/>
          <p:nvPr/>
        </p:nvGrpSpPr>
        <p:grpSpPr>
          <a:xfrm>
            <a:off x="611280" y="476280"/>
            <a:ext cx="8208360" cy="5616360"/>
            <a:chOff x="611280" y="476280"/>
            <a:chExt cx="8208360" cy="561636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6840000" y="3116520"/>
              <a:ext cx="28152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6840000" y="3116520"/>
              <a:ext cx="281520" cy="165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6840000" y="3116520"/>
              <a:ext cx="281520" cy="66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1031"/>
            <p:cNvCxnSpPr>
              <a:stCxn id="60" idx="0"/>
              <a:endCxn id="66" idx="2"/>
            </p:cNvCxnSpPr>
            <p:nvPr/>
          </p:nvCxnSpPr>
          <p:spPr>
            <a:xfrm flipV="1" rot="16200000">
              <a:off x="6673680" y="2291040"/>
              <a:ext cx="330840" cy="28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3"/>
              <a:endCxn id="69" idx="2"/>
            </p:cNvCxnSpPr>
            <p:nvPr/>
          </p:nvCxnSpPr>
          <p:spPr>
            <a:xfrm flipV="1">
              <a:off x="4573800" y="2127600"/>
              <a:ext cx="283680" cy="264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3"/>
              <a:endCxn id="69" idx="2"/>
            </p:cNvCxnSpPr>
            <p:nvPr/>
          </p:nvCxnSpPr>
          <p:spPr>
            <a:xfrm flipV="1">
              <a:off x="45738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34"/>
            <p:cNvCxnSpPr>
              <a:stCxn id="73" idx="3"/>
              <a:endCxn id="69" idx="2"/>
            </p:cNvCxnSpPr>
            <p:nvPr/>
          </p:nvCxnSpPr>
          <p:spPr>
            <a:xfrm flipV="1">
              <a:off x="45738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35"/>
            <p:cNvCxnSpPr>
              <a:stCxn id="75" idx="3"/>
              <a:endCxn id="76" idx="2"/>
            </p:cNvCxnSpPr>
            <p:nvPr/>
          </p:nvCxnSpPr>
          <p:spPr>
            <a:xfrm flipV="1">
              <a:off x="2309400" y="2127240"/>
              <a:ext cx="283680" cy="363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36"/>
            <p:cNvCxnSpPr>
              <a:stCxn id="78" idx="3"/>
              <a:endCxn id="76" idx="2"/>
            </p:cNvCxnSpPr>
            <p:nvPr/>
          </p:nvCxnSpPr>
          <p:spPr>
            <a:xfrm flipV="1">
              <a:off x="2309400" y="2127240"/>
              <a:ext cx="283680" cy="264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37"/>
            <p:cNvCxnSpPr>
              <a:stCxn id="80" idx="3"/>
              <a:endCxn id="76" idx="2"/>
            </p:cNvCxnSpPr>
            <p:nvPr/>
          </p:nvCxnSpPr>
          <p:spPr>
            <a:xfrm flipV="1">
              <a:off x="2309400" y="2127240"/>
              <a:ext cx="283680" cy="165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38"/>
            <p:cNvCxnSpPr>
              <a:stCxn id="82" idx="3"/>
              <a:endCxn id="76" idx="2"/>
            </p:cNvCxnSpPr>
            <p:nvPr/>
          </p:nvCxnSpPr>
          <p:spPr>
            <a:xfrm flipV="1">
              <a:off x="2309400" y="2127240"/>
              <a:ext cx="283680" cy="66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39"/>
            <p:cNvCxnSpPr>
              <a:stCxn id="66" idx="0"/>
              <a:endCxn id="84" idx="2"/>
            </p:cNvCxnSpPr>
            <p:nvPr/>
          </p:nvCxnSpPr>
          <p:spPr>
            <a:xfrm flipV="1" rot="16200000">
              <a:off x="5611320" y="239760"/>
              <a:ext cx="330840" cy="212328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0"/>
            <p:cNvCxnSpPr>
              <a:stCxn id="69" idx="0"/>
              <a:endCxn id="84" idx="2"/>
            </p:cNvCxnSpPr>
            <p:nvPr/>
          </p:nvCxnSpPr>
          <p:spPr>
            <a:xfrm flipV="1" rot="16200000">
              <a:off x="4620600" y="1230480"/>
              <a:ext cx="330840" cy="1418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41"/>
            <p:cNvCxnSpPr>
              <a:stCxn id="76" idx="0"/>
              <a:endCxn id="84" idx="2"/>
            </p:cNvCxnSpPr>
            <p:nvPr/>
          </p:nvCxnSpPr>
          <p:spPr>
            <a:xfrm flipH="1" flipV="1" rot="5400000">
              <a:off x="3488400" y="239760"/>
              <a:ext cx="330840" cy="2123640"/>
            </a:xfrm>
            <a:prstGeom prst="bentConnector3">
              <a:avLst>
                <a:gd name="adj1" fmla="val 435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4" name="_s1042"/>
            <p:cNvSpPr/>
            <p:nvPr/>
          </p:nvSpPr>
          <p:spPr>
            <a:xfrm>
              <a:off x="3866400" y="47628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43"/>
            <p:cNvSpPr/>
            <p:nvPr/>
          </p:nvSpPr>
          <p:spPr>
            <a:xfrm>
              <a:off x="17434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44"/>
            <p:cNvSpPr/>
            <p:nvPr/>
          </p:nvSpPr>
          <p:spPr>
            <a:xfrm>
              <a:off x="400788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45"/>
            <p:cNvSpPr/>
            <p:nvPr/>
          </p:nvSpPr>
          <p:spPr>
            <a:xfrm>
              <a:off x="5989320" y="146736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6"/>
            <p:cNvSpPr/>
            <p:nvPr/>
          </p:nvSpPr>
          <p:spPr>
            <a:xfrm>
              <a:off x="6112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кеа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7"/>
            <p:cNvSpPr/>
            <p:nvPr/>
          </p:nvSpPr>
          <p:spPr>
            <a:xfrm>
              <a:off x="611280" y="344952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о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8"/>
            <p:cNvSpPr/>
            <p:nvPr/>
          </p:nvSpPr>
          <p:spPr>
            <a:xfrm>
              <a:off x="611280" y="444060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За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49"/>
            <p:cNvSpPr/>
            <p:nvPr/>
          </p:nvSpPr>
          <p:spPr>
            <a:xfrm>
              <a:off x="611280" y="54320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лив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50"/>
            <p:cNvSpPr/>
            <p:nvPr/>
          </p:nvSpPr>
          <p:spPr>
            <a:xfrm>
              <a:off x="2875680" y="2458440"/>
              <a:ext cx="169812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одяной па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51"/>
            <p:cNvSpPr/>
            <p:nvPr/>
          </p:nvSpPr>
          <p:spPr>
            <a:xfrm>
              <a:off x="2877840" y="3449520"/>
              <a:ext cx="1695960" cy="660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апельки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52"/>
            <p:cNvSpPr/>
            <p:nvPr/>
          </p:nvSpPr>
          <p:spPr>
            <a:xfrm>
              <a:off x="2877840" y="444060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исталлики ль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53"/>
            <p:cNvSpPr/>
            <p:nvPr/>
          </p:nvSpPr>
          <p:spPr>
            <a:xfrm>
              <a:off x="5991480" y="2458440"/>
              <a:ext cx="169596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Р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54"/>
            <p:cNvSpPr/>
            <p:nvPr/>
          </p:nvSpPr>
          <p:spPr>
            <a:xfrm>
              <a:off x="7121520" y="344952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Ледн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55"/>
            <p:cNvSpPr/>
            <p:nvPr/>
          </p:nvSpPr>
          <p:spPr>
            <a:xfrm>
              <a:off x="7121520" y="4440600"/>
              <a:ext cx="16981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о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56"/>
            <p:cNvSpPr/>
            <p:nvPr/>
          </p:nvSpPr>
          <p:spPr>
            <a:xfrm>
              <a:off x="7121520" y="5432040"/>
              <a:ext cx="1696320" cy="658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дземные в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какой части гидросферы сосредоточено больше всего в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очему же пресные воды не пересыхаю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2"/>
          <p:cNvSpPr/>
          <p:nvPr/>
        </p:nvSpPr>
        <p:spPr>
          <a:xfrm>
            <a:off x="3132000" y="1125360"/>
            <a:ext cx="1584360" cy="501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780000" y="1125360"/>
            <a:ext cx="1800000" cy="682920"/>
          </a:xfrm>
          <a:prstGeom prst="cloudCallout">
            <a:avLst>
              <a:gd name="adj1" fmla="val -18782"/>
              <a:gd name="adj2" fmla="val 67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468360" y="33336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900000" y="1989000"/>
            <a:ext cx="1656000" cy="611280"/>
          </a:xfrm>
          <a:prstGeom prst="cloudCallout">
            <a:avLst>
              <a:gd name="adj1" fmla="val -16060"/>
              <a:gd name="adj2" fmla="val 70000"/>
            </a:avLst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5796000" y="115920"/>
            <a:ext cx="1800360" cy="611280"/>
          </a:xfrm>
          <a:prstGeom prst="cloudCallout">
            <a:avLst>
              <a:gd name="adj1" fmla="val -18782"/>
              <a:gd name="adj2" fmla="val 70000"/>
            </a:avLst>
          </a:prstGeom>
          <a:gradFill rotWithShape="0">
            <a:gsLst>
              <a:gs pos="0">
                <a:srgbClr val="000000"/>
              </a:gs>
              <a:gs pos="100000">
                <a:srgbClr val="99cc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476360" y="981000"/>
            <a:ext cx="1582920" cy="503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87280" y="1197000"/>
            <a:ext cx="433440" cy="504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 flipV="1">
            <a:off x="179280" y="1125000"/>
            <a:ext cx="362160" cy="28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0"/>
          <p:cNvSpPr/>
          <p:nvPr/>
        </p:nvSpPr>
        <p:spPr>
          <a:xfrm flipV="1">
            <a:off x="1476360" y="692280"/>
            <a:ext cx="863640" cy="72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1403280" y="189000"/>
            <a:ext cx="50472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755280" y="1268280"/>
            <a:ext cx="7308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79280" y="189000"/>
            <a:ext cx="287280" cy="215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V="1">
            <a:off x="1187280" y="115560"/>
            <a:ext cx="73080" cy="189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79280" y="765000"/>
            <a:ext cx="216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4500720" y="1989000"/>
            <a:ext cx="1150920" cy="360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908000" y="1484280"/>
            <a:ext cx="719280" cy="287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8"/>
          <p:cNvSpPr/>
          <p:nvPr/>
        </p:nvSpPr>
        <p:spPr>
          <a:xfrm>
            <a:off x="2987640" y="1773360"/>
            <a:ext cx="1297080" cy="576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1332000" y="2708280"/>
            <a:ext cx="1657080" cy="1149120"/>
            <a:chOff x="1332000" y="2708280"/>
            <a:chExt cx="1657080" cy="1149120"/>
          </a:xfrm>
        </p:grpSpPr>
        <p:sp>
          <p:nvSpPr>
            <p:cNvPr id="107" name="Oval 20"/>
            <p:cNvSpPr/>
            <p:nvPr/>
          </p:nvSpPr>
          <p:spPr>
            <a:xfrm>
              <a:off x="156888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171072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185292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199476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2136600" y="3489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1710720" y="2799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1852920" y="2937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199476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2136600" y="32133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2278440" y="33512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194760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208980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223164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237348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2515680" y="3260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1332000" y="2891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2231640" y="2708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1378800" y="30754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1568880" y="32144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1427040" y="33058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1568880" y="34437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171072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1757880" y="33980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>
              <a:off x="1899720" y="35359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>
              <a:off x="1473840" y="35816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>
              <a:off x="2373480" y="284616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>
              <a:off x="2515680" y="2984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>
              <a:off x="2657520" y="312228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>
              <a:off x="2799720" y="326016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>
              <a:off x="294120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>
              <a:off x="2657520" y="339804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>
              <a:off x="2799720" y="353592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>
              <a:off x="2468520" y="34902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>
              <a:off x="2325600" y="3628440"/>
              <a:ext cx="4752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>
              <a:off x="2089800" y="372060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>
              <a:off x="1615680" y="37195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>
              <a:off x="1852920" y="3766320"/>
              <a:ext cx="47880" cy="910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57"/>
          <p:cNvGrpSpPr/>
          <p:nvPr/>
        </p:nvGrpSpPr>
        <p:grpSpPr>
          <a:xfrm>
            <a:off x="3708360" y="1989000"/>
            <a:ext cx="2521080" cy="1798920"/>
            <a:chOff x="3708360" y="1989000"/>
            <a:chExt cx="2521080" cy="1798920"/>
          </a:xfrm>
        </p:grpSpPr>
        <p:sp>
          <p:nvSpPr>
            <p:cNvPr id="145" name="Oval 58"/>
            <p:cNvSpPr/>
            <p:nvPr/>
          </p:nvSpPr>
          <p:spPr>
            <a:xfrm>
              <a:off x="4068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>
              <a:off x="4284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450072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471672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4932360" y="3211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4284720" y="213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4500720" y="2347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71672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932360" y="2779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5148360" y="29955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645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6108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507708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5292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5508720" y="2852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3708360" y="227664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5077080" y="1989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5"/>
            <p:cNvSpPr/>
            <p:nvPr/>
          </p:nvSpPr>
          <p:spPr>
            <a:xfrm>
              <a:off x="3780000" y="2563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76"/>
            <p:cNvSpPr/>
            <p:nvPr/>
          </p:nvSpPr>
          <p:spPr>
            <a:xfrm>
              <a:off x="4068720" y="2781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77"/>
            <p:cNvSpPr/>
            <p:nvPr/>
          </p:nvSpPr>
          <p:spPr>
            <a:xfrm>
              <a:off x="3853080" y="292428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78"/>
            <p:cNvSpPr/>
            <p:nvPr/>
          </p:nvSpPr>
          <p:spPr>
            <a:xfrm>
              <a:off x="4068720" y="3139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79"/>
            <p:cNvSpPr/>
            <p:nvPr/>
          </p:nvSpPr>
          <p:spPr>
            <a:xfrm>
              <a:off x="428472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0"/>
            <p:cNvSpPr/>
            <p:nvPr/>
          </p:nvSpPr>
          <p:spPr>
            <a:xfrm>
              <a:off x="4356360" y="3068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4572000" y="3284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82"/>
            <p:cNvSpPr/>
            <p:nvPr/>
          </p:nvSpPr>
          <p:spPr>
            <a:xfrm>
              <a:off x="3924360" y="3355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83"/>
            <p:cNvSpPr/>
            <p:nvPr/>
          </p:nvSpPr>
          <p:spPr>
            <a:xfrm>
              <a:off x="5292720" y="220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84"/>
            <p:cNvSpPr/>
            <p:nvPr/>
          </p:nvSpPr>
          <p:spPr>
            <a:xfrm>
              <a:off x="5508720" y="2421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85"/>
            <p:cNvSpPr/>
            <p:nvPr/>
          </p:nvSpPr>
          <p:spPr>
            <a:xfrm>
              <a:off x="5724720" y="2637000"/>
              <a:ext cx="73080" cy="1425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86"/>
            <p:cNvSpPr/>
            <p:nvPr/>
          </p:nvSpPr>
          <p:spPr>
            <a:xfrm>
              <a:off x="5940720" y="2852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87"/>
            <p:cNvSpPr/>
            <p:nvPr/>
          </p:nvSpPr>
          <p:spPr>
            <a:xfrm>
              <a:off x="615636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88"/>
            <p:cNvSpPr/>
            <p:nvPr/>
          </p:nvSpPr>
          <p:spPr>
            <a:xfrm>
              <a:off x="5724720" y="306864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9"/>
            <p:cNvSpPr/>
            <p:nvPr/>
          </p:nvSpPr>
          <p:spPr>
            <a:xfrm>
              <a:off x="5940720" y="328464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90"/>
            <p:cNvSpPr/>
            <p:nvPr/>
          </p:nvSpPr>
          <p:spPr>
            <a:xfrm>
              <a:off x="5437440" y="3213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1"/>
            <p:cNvSpPr/>
            <p:nvPr/>
          </p:nvSpPr>
          <p:spPr>
            <a:xfrm>
              <a:off x="5220000" y="3429000"/>
              <a:ext cx="7272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2"/>
            <p:cNvSpPr/>
            <p:nvPr/>
          </p:nvSpPr>
          <p:spPr>
            <a:xfrm>
              <a:off x="4861080" y="357336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93"/>
            <p:cNvSpPr/>
            <p:nvPr/>
          </p:nvSpPr>
          <p:spPr>
            <a:xfrm>
              <a:off x="4140360" y="357192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94"/>
            <p:cNvSpPr/>
            <p:nvPr/>
          </p:nvSpPr>
          <p:spPr>
            <a:xfrm>
              <a:off x="4500720" y="3645000"/>
              <a:ext cx="73080" cy="1429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AutoShape 95"/>
          <p:cNvSpPr/>
          <p:nvPr/>
        </p:nvSpPr>
        <p:spPr>
          <a:xfrm>
            <a:off x="7308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6"/>
          <p:cNvSpPr/>
          <p:nvPr/>
        </p:nvSpPr>
        <p:spPr>
          <a:xfrm>
            <a:off x="730872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7"/>
          <p:cNvSpPr/>
          <p:nvPr/>
        </p:nvSpPr>
        <p:spPr>
          <a:xfrm>
            <a:off x="6948360" y="1125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8"/>
          <p:cNvSpPr/>
          <p:nvPr/>
        </p:nvSpPr>
        <p:spPr>
          <a:xfrm>
            <a:off x="7740720" y="90792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9"/>
          <p:cNvSpPr/>
          <p:nvPr/>
        </p:nvSpPr>
        <p:spPr>
          <a:xfrm>
            <a:off x="6588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0"/>
          <p:cNvSpPr/>
          <p:nvPr/>
        </p:nvSpPr>
        <p:spPr>
          <a:xfrm>
            <a:off x="6516720" y="1052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1"/>
          <p:cNvSpPr/>
          <p:nvPr/>
        </p:nvSpPr>
        <p:spPr>
          <a:xfrm>
            <a:off x="7596360" y="112536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2"/>
          <p:cNvSpPr/>
          <p:nvPr/>
        </p:nvSpPr>
        <p:spPr>
          <a:xfrm>
            <a:off x="6948360" y="765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3"/>
          <p:cNvSpPr/>
          <p:nvPr/>
        </p:nvSpPr>
        <p:spPr>
          <a:xfrm>
            <a:off x="6877080" y="83664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4"/>
          <p:cNvSpPr/>
          <p:nvPr/>
        </p:nvSpPr>
        <p:spPr>
          <a:xfrm>
            <a:off x="8028000" y="981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5"/>
          <p:cNvSpPr/>
          <p:nvPr/>
        </p:nvSpPr>
        <p:spPr>
          <a:xfrm>
            <a:off x="7812000" y="134136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6"/>
          <p:cNvSpPr/>
          <p:nvPr/>
        </p:nvSpPr>
        <p:spPr>
          <a:xfrm>
            <a:off x="687708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7"/>
          <p:cNvSpPr/>
          <p:nvPr/>
        </p:nvSpPr>
        <p:spPr>
          <a:xfrm>
            <a:off x="7308720" y="141300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8"/>
          <p:cNvSpPr/>
          <p:nvPr/>
        </p:nvSpPr>
        <p:spPr>
          <a:xfrm>
            <a:off x="7308720" y="1700280"/>
            <a:ext cx="21600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9"/>
          <p:cNvSpPr/>
          <p:nvPr/>
        </p:nvSpPr>
        <p:spPr>
          <a:xfrm>
            <a:off x="6732720" y="1628640"/>
            <a:ext cx="215640" cy="193680"/>
          </a:xfrm>
          <a:custGeom>
            <a:avLst/>
            <a:gdLst/>
            <a:ahLst/>
            <a:rect l="l" t="t" r="r" b="b"/>
            <a:pathLst>
              <a:path w="215900" h="193675">
                <a:moveTo>
                  <a:pt x="0" y="73977"/>
                </a:moveTo>
                <a:lnTo>
                  <a:pt x="82467" y="73978"/>
                </a:lnTo>
                <a:lnTo>
                  <a:pt x="107950" y="0"/>
                </a:lnTo>
                <a:lnTo>
                  <a:pt x="133433" y="73978"/>
                </a:lnTo>
                <a:lnTo>
                  <a:pt x="215900" y="73977"/>
                </a:lnTo>
                <a:lnTo>
                  <a:pt x="149182" y="119697"/>
                </a:lnTo>
                <a:lnTo>
                  <a:pt x="174667" y="193675"/>
                </a:lnTo>
                <a:lnTo>
                  <a:pt x="107950" y="147954"/>
                </a:lnTo>
                <a:lnTo>
                  <a:pt x="41233" y="193675"/>
                </a:lnTo>
                <a:lnTo>
                  <a:pt x="66718" y="119697"/>
                </a:lnTo>
                <a:lnTo>
                  <a:pt x="0" y="7397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0"/>
          <p:cNvSpPr/>
          <p:nvPr/>
        </p:nvSpPr>
        <p:spPr>
          <a:xfrm rot="21318600">
            <a:off x="2700000" y="1483920"/>
            <a:ext cx="1008000" cy="21600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1"/>
          <p:cNvSpPr/>
          <p:nvPr/>
        </p:nvSpPr>
        <p:spPr>
          <a:xfrm rot="21318600">
            <a:off x="5003280" y="691920"/>
            <a:ext cx="1008360" cy="21564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28800 h 215640"/>
              <a:gd name="textAreaBottom" fmla="*/ 186840 h 21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2"/>
          <p:cNvSpPr/>
          <p:nvPr/>
        </p:nvSpPr>
        <p:spPr>
          <a:xfrm>
            <a:off x="5003640" y="1484280"/>
            <a:ext cx="505080" cy="57636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3"/>
          <p:cNvSpPr/>
          <p:nvPr/>
        </p:nvSpPr>
        <p:spPr>
          <a:xfrm rot="982200">
            <a:off x="3924360" y="1484280"/>
            <a:ext cx="431640" cy="86508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4"/>
          <p:cNvSpPr/>
          <p:nvPr/>
        </p:nvSpPr>
        <p:spPr>
          <a:xfrm>
            <a:off x="9144000" y="2852640"/>
            <a:ext cx="0" cy="40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5"/>
          <p:cNvSpPr/>
          <p:nvPr/>
        </p:nvSpPr>
        <p:spPr>
          <a:xfrm>
            <a:off x="166680" y="1844640"/>
            <a:ext cx="9158400" cy="5113440"/>
          </a:xfrm>
          <a:custGeom>
            <a:avLst/>
            <a:gdLst>
              <a:gd name="textAreaLeft" fmla="*/ 0 w 9158400"/>
              <a:gd name="textAreaRight" fmla="*/ 9158760 w 9158400"/>
              <a:gd name="textAreaTop" fmla="*/ 0 h 5113440"/>
              <a:gd name="textAreaBottom" fmla="*/ 5113800 h 5113440"/>
            </a:gdLst>
            <a:ahLst/>
            <a:rect l="textAreaLeft" t="textAreaTop" r="textAreaRight" b="textAreaBottom"/>
            <a:pathLst>
              <a:path w="5769" h="3097">
                <a:moveTo>
                  <a:pt x="14" y="3040"/>
                </a:moveTo>
                <a:cubicBezTo>
                  <a:pt x="14" y="3040"/>
                  <a:pt x="9" y="3003"/>
                  <a:pt x="7" y="2984"/>
                </a:cubicBezTo>
                <a:cubicBezTo>
                  <a:pt x="5" y="2873"/>
                  <a:pt x="0" y="2762"/>
                  <a:pt x="0" y="2651"/>
                </a:cubicBezTo>
                <a:cubicBezTo>
                  <a:pt x="0" y="2589"/>
                  <a:pt x="17" y="2652"/>
                  <a:pt x="0" y="2602"/>
                </a:cubicBezTo>
                <a:cubicBezTo>
                  <a:pt x="5" y="2486"/>
                  <a:pt x="5" y="2370"/>
                  <a:pt x="14" y="2255"/>
                </a:cubicBezTo>
                <a:cubicBezTo>
                  <a:pt x="15" y="2239"/>
                  <a:pt x="41" y="2194"/>
                  <a:pt x="56" y="2186"/>
                </a:cubicBezTo>
                <a:cubicBezTo>
                  <a:pt x="69" y="2179"/>
                  <a:pt x="97" y="2172"/>
                  <a:pt x="97" y="2172"/>
                </a:cubicBezTo>
                <a:cubicBezTo>
                  <a:pt x="222" y="2174"/>
                  <a:pt x="347" y="2175"/>
                  <a:pt x="472" y="2179"/>
                </a:cubicBezTo>
                <a:cubicBezTo>
                  <a:pt x="550" y="2182"/>
                  <a:pt x="619" y="2219"/>
                  <a:pt x="701" y="2221"/>
                </a:cubicBezTo>
                <a:cubicBezTo>
                  <a:pt x="895" y="2227"/>
                  <a:pt x="1090" y="2226"/>
                  <a:pt x="1284" y="2228"/>
                </a:cubicBezTo>
                <a:cubicBezTo>
                  <a:pt x="1399" y="2247"/>
                  <a:pt x="1749" y="2239"/>
                  <a:pt x="1902" y="2172"/>
                </a:cubicBezTo>
                <a:cubicBezTo>
                  <a:pt x="1959" y="2147"/>
                  <a:pt x="2013" y="2108"/>
                  <a:pt x="2075" y="2096"/>
                </a:cubicBezTo>
                <a:cubicBezTo>
                  <a:pt x="2227" y="2065"/>
                  <a:pt x="2385" y="2085"/>
                  <a:pt x="2540" y="2082"/>
                </a:cubicBezTo>
                <a:cubicBezTo>
                  <a:pt x="2606" y="2033"/>
                  <a:pt x="2574" y="2049"/>
                  <a:pt x="2630" y="2026"/>
                </a:cubicBezTo>
                <a:cubicBezTo>
                  <a:pt x="2662" y="1995"/>
                  <a:pt x="2696" y="1968"/>
                  <a:pt x="2727" y="1936"/>
                </a:cubicBezTo>
                <a:cubicBezTo>
                  <a:pt x="2729" y="1929"/>
                  <a:pt x="2729" y="1920"/>
                  <a:pt x="2734" y="1915"/>
                </a:cubicBezTo>
                <a:cubicBezTo>
                  <a:pt x="2748" y="1901"/>
                  <a:pt x="2783" y="1881"/>
                  <a:pt x="2783" y="1881"/>
                </a:cubicBezTo>
                <a:cubicBezTo>
                  <a:pt x="2805" y="1848"/>
                  <a:pt x="2819" y="1820"/>
                  <a:pt x="2852" y="1797"/>
                </a:cubicBezTo>
                <a:cubicBezTo>
                  <a:pt x="2897" y="1765"/>
                  <a:pt x="2960" y="1754"/>
                  <a:pt x="3012" y="1742"/>
                </a:cubicBezTo>
                <a:cubicBezTo>
                  <a:pt x="3168" y="1707"/>
                  <a:pt x="3332" y="1718"/>
                  <a:pt x="3491" y="1700"/>
                </a:cubicBezTo>
                <a:cubicBezTo>
                  <a:pt x="3517" y="1694"/>
                  <a:pt x="3541" y="1685"/>
                  <a:pt x="3567" y="1679"/>
                </a:cubicBezTo>
                <a:cubicBezTo>
                  <a:pt x="3622" y="1645"/>
                  <a:pt x="3676" y="1611"/>
                  <a:pt x="3734" y="1582"/>
                </a:cubicBezTo>
                <a:cubicBezTo>
                  <a:pt x="3788" y="1500"/>
                  <a:pt x="4023" y="1535"/>
                  <a:pt x="4053" y="1534"/>
                </a:cubicBezTo>
                <a:cubicBezTo>
                  <a:pt x="4132" y="1475"/>
                  <a:pt x="4157" y="1367"/>
                  <a:pt x="4226" y="1298"/>
                </a:cubicBezTo>
                <a:cubicBezTo>
                  <a:pt x="4244" y="1245"/>
                  <a:pt x="4248" y="1190"/>
                  <a:pt x="4282" y="1145"/>
                </a:cubicBezTo>
                <a:cubicBezTo>
                  <a:pt x="4316" y="1009"/>
                  <a:pt x="4365" y="879"/>
                  <a:pt x="4428" y="756"/>
                </a:cubicBezTo>
                <a:cubicBezTo>
                  <a:pt x="4446" y="720"/>
                  <a:pt x="4444" y="705"/>
                  <a:pt x="4469" y="666"/>
                </a:cubicBezTo>
                <a:cubicBezTo>
                  <a:pt x="4480" y="623"/>
                  <a:pt x="4504" y="593"/>
                  <a:pt x="4525" y="555"/>
                </a:cubicBezTo>
                <a:cubicBezTo>
                  <a:pt x="4536" y="535"/>
                  <a:pt x="4542" y="503"/>
                  <a:pt x="4559" y="486"/>
                </a:cubicBezTo>
                <a:cubicBezTo>
                  <a:pt x="4567" y="478"/>
                  <a:pt x="4579" y="473"/>
                  <a:pt x="4587" y="465"/>
                </a:cubicBezTo>
                <a:cubicBezTo>
                  <a:pt x="4612" y="440"/>
                  <a:pt x="4626" y="415"/>
                  <a:pt x="4657" y="396"/>
                </a:cubicBezTo>
                <a:cubicBezTo>
                  <a:pt x="4667" y="357"/>
                  <a:pt x="4695" y="345"/>
                  <a:pt x="4719" y="312"/>
                </a:cubicBezTo>
                <a:cubicBezTo>
                  <a:pt x="4754" y="265"/>
                  <a:pt x="4772" y="209"/>
                  <a:pt x="4816" y="167"/>
                </a:cubicBezTo>
                <a:cubicBezTo>
                  <a:pt x="4828" y="132"/>
                  <a:pt x="4841" y="118"/>
                  <a:pt x="4865" y="90"/>
                </a:cubicBezTo>
                <a:cubicBezTo>
                  <a:pt x="4917" y="27"/>
                  <a:pt x="4915" y="16"/>
                  <a:pt x="4997" y="0"/>
                </a:cubicBezTo>
                <a:cubicBezTo>
                  <a:pt x="5015" y="2"/>
                  <a:pt x="5035" y="1"/>
                  <a:pt x="5052" y="7"/>
                </a:cubicBezTo>
                <a:cubicBezTo>
                  <a:pt x="5068" y="13"/>
                  <a:pt x="5094" y="35"/>
                  <a:pt x="5094" y="35"/>
                </a:cubicBezTo>
                <a:cubicBezTo>
                  <a:pt x="5111" y="59"/>
                  <a:pt x="5143" y="95"/>
                  <a:pt x="5170" y="104"/>
                </a:cubicBezTo>
                <a:cubicBezTo>
                  <a:pt x="5175" y="111"/>
                  <a:pt x="5178" y="119"/>
                  <a:pt x="5184" y="125"/>
                </a:cubicBezTo>
                <a:cubicBezTo>
                  <a:pt x="5192" y="133"/>
                  <a:pt x="5205" y="136"/>
                  <a:pt x="5212" y="146"/>
                </a:cubicBezTo>
                <a:cubicBezTo>
                  <a:pt x="5220" y="158"/>
                  <a:pt x="5221" y="173"/>
                  <a:pt x="5226" y="187"/>
                </a:cubicBezTo>
                <a:cubicBezTo>
                  <a:pt x="5245" y="242"/>
                  <a:pt x="5302" y="314"/>
                  <a:pt x="5358" y="333"/>
                </a:cubicBezTo>
                <a:cubicBezTo>
                  <a:pt x="5389" y="357"/>
                  <a:pt x="5383" y="369"/>
                  <a:pt x="5413" y="389"/>
                </a:cubicBezTo>
                <a:cubicBezTo>
                  <a:pt x="5458" y="451"/>
                  <a:pt x="5437" y="421"/>
                  <a:pt x="5476" y="479"/>
                </a:cubicBezTo>
                <a:cubicBezTo>
                  <a:pt x="5528" y="557"/>
                  <a:pt x="5452" y="479"/>
                  <a:pt x="5510" y="534"/>
                </a:cubicBezTo>
                <a:cubicBezTo>
                  <a:pt x="5527" y="584"/>
                  <a:pt x="5503" y="524"/>
                  <a:pt x="5538" y="576"/>
                </a:cubicBezTo>
                <a:cubicBezTo>
                  <a:pt x="5547" y="589"/>
                  <a:pt x="5550" y="605"/>
                  <a:pt x="5559" y="618"/>
                </a:cubicBezTo>
                <a:cubicBezTo>
                  <a:pt x="5569" y="655"/>
                  <a:pt x="5593" y="733"/>
                  <a:pt x="5614" y="763"/>
                </a:cubicBezTo>
                <a:cubicBezTo>
                  <a:pt x="5623" y="799"/>
                  <a:pt x="5642" y="832"/>
                  <a:pt x="5656" y="867"/>
                </a:cubicBezTo>
                <a:cubicBezTo>
                  <a:pt x="5667" y="895"/>
                  <a:pt x="5667" y="919"/>
                  <a:pt x="5684" y="944"/>
                </a:cubicBezTo>
                <a:cubicBezTo>
                  <a:pt x="5703" y="1034"/>
                  <a:pt x="5704" y="1128"/>
                  <a:pt x="5739" y="1214"/>
                </a:cubicBezTo>
                <a:cubicBezTo>
                  <a:pt x="5769" y="1422"/>
                  <a:pt x="5767" y="2892"/>
                  <a:pt x="5746" y="3060"/>
                </a:cubicBezTo>
                <a:cubicBezTo>
                  <a:pt x="5741" y="3097"/>
                  <a:pt x="5672" y="3065"/>
                  <a:pt x="5635" y="3067"/>
                </a:cubicBezTo>
                <a:cubicBezTo>
                  <a:pt x="5584" y="3070"/>
                  <a:pt x="5533" y="3072"/>
                  <a:pt x="5482" y="3074"/>
                </a:cubicBezTo>
                <a:cubicBezTo>
                  <a:pt x="4108" y="3069"/>
                  <a:pt x="2779" y="3051"/>
                  <a:pt x="1402" y="3047"/>
                </a:cubicBezTo>
                <a:cubicBezTo>
                  <a:pt x="1176" y="3043"/>
                  <a:pt x="981" y="3032"/>
                  <a:pt x="763" y="3012"/>
                </a:cubicBezTo>
                <a:cubicBezTo>
                  <a:pt x="520" y="3014"/>
                  <a:pt x="278" y="3012"/>
                  <a:pt x="35" y="3019"/>
                </a:cubicBezTo>
                <a:cubicBezTo>
                  <a:pt x="12" y="3020"/>
                  <a:pt x="14" y="3029"/>
                  <a:pt x="14" y="3040"/>
                </a:cubicBezTo>
                <a:close/>
              </a:path>
            </a:pathLst>
          </a:custGeom>
          <a:solidFill>
            <a:srgbClr val="996633"/>
          </a:solidFill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6"/>
          <p:cNvSpPr/>
          <p:nvPr/>
        </p:nvSpPr>
        <p:spPr>
          <a:xfrm>
            <a:off x="7272360" y="1700280"/>
            <a:ext cx="1871640" cy="15303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138" h="918">
                <a:moveTo>
                  <a:pt x="28" y="591"/>
                </a:moveTo>
                <a:cubicBezTo>
                  <a:pt x="53" y="555"/>
                  <a:pt x="69" y="528"/>
                  <a:pt x="83" y="487"/>
                </a:cubicBezTo>
                <a:cubicBezTo>
                  <a:pt x="87" y="475"/>
                  <a:pt x="106" y="478"/>
                  <a:pt x="118" y="473"/>
                </a:cubicBezTo>
                <a:cubicBezTo>
                  <a:pt x="135" y="449"/>
                  <a:pt x="150" y="448"/>
                  <a:pt x="173" y="432"/>
                </a:cubicBezTo>
                <a:cubicBezTo>
                  <a:pt x="180" y="411"/>
                  <a:pt x="182" y="387"/>
                  <a:pt x="194" y="369"/>
                </a:cubicBezTo>
                <a:cubicBezTo>
                  <a:pt x="207" y="350"/>
                  <a:pt x="242" y="311"/>
                  <a:pt x="250" y="286"/>
                </a:cubicBezTo>
                <a:cubicBezTo>
                  <a:pt x="266" y="239"/>
                  <a:pt x="276" y="197"/>
                  <a:pt x="319" y="168"/>
                </a:cubicBezTo>
                <a:cubicBezTo>
                  <a:pt x="329" y="138"/>
                  <a:pt x="349" y="129"/>
                  <a:pt x="375" y="113"/>
                </a:cubicBezTo>
                <a:cubicBezTo>
                  <a:pt x="397" y="47"/>
                  <a:pt x="408" y="40"/>
                  <a:pt x="479" y="22"/>
                </a:cubicBezTo>
                <a:cubicBezTo>
                  <a:pt x="514" y="0"/>
                  <a:pt x="527" y="2"/>
                  <a:pt x="569" y="9"/>
                </a:cubicBezTo>
                <a:cubicBezTo>
                  <a:pt x="581" y="44"/>
                  <a:pt x="582" y="66"/>
                  <a:pt x="618" y="78"/>
                </a:cubicBezTo>
                <a:cubicBezTo>
                  <a:pt x="631" y="87"/>
                  <a:pt x="647" y="89"/>
                  <a:pt x="659" y="99"/>
                </a:cubicBezTo>
                <a:cubicBezTo>
                  <a:pt x="666" y="104"/>
                  <a:pt x="667" y="115"/>
                  <a:pt x="673" y="120"/>
                </a:cubicBezTo>
                <a:cubicBezTo>
                  <a:pt x="686" y="131"/>
                  <a:pt x="715" y="147"/>
                  <a:pt x="715" y="147"/>
                </a:cubicBezTo>
                <a:cubicBezTo>
                  <a:pt x="748" y="196"/>
                  <a:pt x="734" y="175"/>
                  <a:pt x="756" y="210"/>
                </a:cubicBezTo>
                <a:cubicBezTo>
                  <a:pt x="772" y="237"/>
                  <a:pt x="764" y="279"/>
                  <a:pt x="791" y="300"/>
                </a:cubicBezTo>
                <a:cubicBezTo>
                  <a:pt x="797" y="305"/>
                  <a:pt x="805" y="304"/>
                  <a:pt x="812" y="307"/>
                </a:cubicBezTo>
                <a:cubicBezTo>
                  <a:pt x="840" y="321"/>
                  <a:pt x="869" y="331"/>
                  <a:pt x="895" y="349"/>
                </a:cubicBezTo>
                <a:cubicBezTo>
                  <a:pt x="912" y="397"/>
                  <a:pt x="930" y="438"/>
                  <a:pt x="958" y="480"/>
                </a:cubicBezTo>
                <a:cubicBezTo>
                  <a:pt x="963" y="488"/>
                  <a:pt x="976" y="485"/>
                  <a:pt x="985" y="487"/>
                </a:cubicBezTo>
                <a:cubicBezTo>
                  <a:pt x="995" y="518"/>
                  <a:pt x="1011" y="548"/>
                  <a:pt x="1034" y="571"/>
                </a:cubicBezTo>
                <a:cubicBezTo>
                  <a:pt x="1051" y="620"/>
                  <a:pt x="1040" y="600"/>
                  <a:pt x="1062" y="633"/>
                </a:cubicBezTo>
                <a:cubicBezTo>
                  <a:pt x="1074" y="682"/>
                  <a:pt x="1080" y="731"/>
                  <a:pt x="1096" y="779"/>
                </a:cubicBezTo>
                <a:cubicBezTo>
                  <a:pt x="1100" y="793"/>
                  <a:pt x="1102" y="808"/>
                  <a:pt x="1110" y="820"/>
                </a:cubicBezTo>
                <a:cubicBezTo>
                  <a:pt x="1119" y="834"/>
                  <a:pt x="1138" y="862"/>
                  <a:pt x="1138" y="862"/>
                </a:cubicBezTo>
                <a:cubicBezTo>
                  <a:pt x="1136" y="878"/>
                  <a:pt x="1138" y="896"/>
                  <a:pt x="1131" y="911"/>
                </a:cubicBezTo>
                <a:cubicBezTo>
                  <a:pt x="1128" y="918"/>
                  <a:pt x="1117" y="918"/>
                  <a:pt x="1110" y="918"/>
                </a:cubicBezTo>
                <a:cubicBezTo>
                  <a:pt x="1085" y="918"/>
                  <a:pt x="1033" y="892"/>
                  <a:pt x="1006" y="883"/>
                </a:cubicBezTo>
                <a:cubicBezTo>
                  <a:pt x="970" y="774"/>
                  <a:pt x="909" y="780"/>
                  <a:pt x="812" y="772"/>
                </a:cubicBezTo>
                <a:cubicBezTo>
                  <a:pt x="776" y="736"/>
                  <a:pt x="801" y="764"/>
                  <a:pt x="763" y="709"/>
                </a:cubicBezTo>
                <a:cubicBezTo>
                  <a:pt x="757" y="700"/>
                  <a:pt x="743" y="682"/>
                  <a:pt x="743" y="682"/>
                </a:cubicBezTo>
                <a:cubicBezTo>
                  <a:pt x="732" y="638"/>
                  <a:pt x="728" y="594"/>
                  <a:pt x="680" y="578"/>
                </a:cubicBezTo>
                <a:cubicBezTo>
                  <a:pt x="669" y="593"/>
                  <a:pt x="665" y="613"/>
                  <a:pt x="652" y="626"/>
                </a:cubicBezTo>
                <a:cubicBezTo>
                  <a:pt x="640" y="638"/>
                  <a:pt x="620" y="639"/>
                  <a:pt x="604" y="647"/>
                </a:cubicBezTo>
                <a:cubicBezTo>
                  <a:pt x="590" y="668"/>
                  <a:pt x="583" y="688"/>
                  <a:pt x="569" y="709"/>
                </a:cubicBezTo>
                <a:cubicBezTo>
                  <a:pt x="571" y="730"/>
                  <a:pt x="570" y="752"/>
                  <a:pt x="576" y="772"/>
                </a:cubicBezTo>
                <a:cubicBezTo>
                  <a:pt x="579" y="783"/>
                  <a:pt x="597" y="788"/>
                  <a:pt x="597" y="800"/>
                </a:cubicBezTo>
                <a:cubicBezTo>
                  <a:pt x="597" y="807"/>
                  <a:pt x="583" y="794"/>
                  <a:pt x="576" y="793"/>
                </a:cubicBezTo>
                <a:cubicBezTo>
                  <a:pt x="523" y="787"/>
                  <a:pt x="469" y="784"/>
                  <a:pt x="416" y="779"/>
                </a:cubicBezTo>
                <a:cubicBezTo>
                  <a:pt x="411" y="772"/>
                  <a:pt x="405" y="766"/>
                  <a:pt x="402" y="758"/>
                </a:cubicBezTo>
                <a:cubicBezTo>
                  <a:pt x="398" y="745"/>
                  <a:pt x="408" y="724"/>
                  <a:pt x="396" y="716"/>
                </a:cubicBezTo>
                <a:cubicBezTo>
                  <a:pt x="382" y="707"/>
                  <a:pt x="363" y="721"/>
                  <a:pt x="347" y="723"/>
                </a:cubicBezTo>
                <a:cubicBezTo>
                  <a:pt x="270" y="774"/>
                  <a:pt x="264" y="778"/>
                  <a:pt x="160" y="793"/>
                </a:cubicBezTo>
                <a:cubicBezTo>
                  <a:pt x="120" y="854"/>
                  <a:pt x="152" y="844"/>
                  <a:pt x="49" y="827"/>
                </a:cubicBezTo>
                <a:cubicBezTo>
                  <a:pt x="30" y="772"/>
                  <a:pt x="68" y="717"/>
                  <a:pt x="42" y="661"/>
                </a:cubicBezTo>
                <a:cubicBezTo>
                  <a:pt x="35" y="646"/>
                  <a:pt x="0" y="633"/>
                  <a:pt x="0" y="6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17"/>
          <p:cNvSpPr/>
          <p:nvPr/>
        </p:nvSpPr>
        <p:spPr>
          <a:xfrm>
            <a:off x="-36360" y="5229360"/>
            <a:ext cx="3744720" cy="1670040"/>
          </a:xfrm>
          <a:custGeom>
            <a:avLst/>
            <a:gdLst>
              <a:gd name="textAreaLeft" fmla="*/ 0 w 3744720"/>
              <a:gd name="textAreaRight" fmla="*/ 3745080 w 3744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2283" h="1052">
                <a:moveTo>
                  <a:pt x="9" y="1025"/>
                </a:moveTo>
                <a:cubicBezTo>
                  <a:pt x="226" y="1027"/>
                  <a:pt x="444" y="1032"/>
                  <a:pt x="661" y="1032"/>
                </a:cubicBezTo>
                <a:cubicBezTo>
                  <a:pt x="1047" y="1032"/>
                  <a:pt x="1152" y="1052"/>
                  <a:pt x="1439" y="956"/>
                </a:cubicBezTo>
                <a:cubicBezTo>
                  <a:pt x="1468" y="925"/>
                  <a:pt x="1502" y="894"/>
                  <a:pt x="1543" y="880"/>
                </a:cubicBezTo>
                <a:cubicBezTo>
                  <a:pt x="1550" y="873"/>
                  <a:pt x="1556" y="865"/>
                  <a:pt x="1564" y="859"/>
                </a:cubicBezTo>
                <a:cubicBezTo>
                  <a:pt x="1570" y="855"/>
                  <a:pt x="1579" y="856"/>
                  <a:pt x="1584" y="852"/>
                </a:cubicBezTo>
                <a:cubicBezTo>
                  <a:pt x="1590" y="847"/>
                  <a:pt x="1592" y="837"/>
                  <a:pt x="1598" y="831"/>
                </a:cubicBezTo>
                <a:cubicBezTo>
                  <a:pt x="1604" y="825"/>
                  <a:pt x="1612" y="822"/>
                  <a:pt x="1619" y="817"/>
                </a:cubicBezTo>
                <a:cubicBezTo>
                  <a:pt x="1636" y="791"/>
                  <a:pt x="1689" y="740"/>
                  <a:pt x="1716" y="727"/>
                </a:cubicBezTo>
                <a:cubicBezTo>
                  <a:pt x="1725" y="699"/>
                  <a:pt x="1728" y="681"/>
                  <a:pt x="1758" y="671"/>
                </a:cubicBezTo>
                <a:cubicBezTo>
                  <a:pt x="1774" y="626"/>
                  <a:pt x="1839" y="555"/>
                  <a:pt x="1883" y="533"/>
                </a:cubicBezTo>
                <a:cubicBezTo>
                  <a:pt x="1894" y="499"/>
                  <a:pt x="1907" y="495"/>
                  <a:pt x="1931" y="470"/>
                </a:cubicBezTo>
                <a:cubicBezTo>
                  <a:pt x="1963" y="437"/>
                  <a:pt x="1989" y="398"/>
                  <a:pt x="2015" y="359"/>
                </a:cubicBezTo>
                <a:cubicBezTo>
                  <a:pt x="2036" y="327"/>
                  <a:pt x="2056" y="328"/>
                  <a:pt x="2070" y="297"/>
                </a:cubicBezTo>
                <a:cubicBezTo>
                  <a:pt x="2095" y="240"/>
                  <a:pt x="2113" y="173"/>
                  <a:pt x="2167" y="137"/>
                </a:cubicBezTo>
                <a:cubicBezTo>
                  <a:pt x="2193" y="98"/>
                  <a:pt x="2218" y="66"/>
                  <a:pt x="2264" y="54"/>
                </a:cubicBezTo>
                <a:cubicBezTo>
                  <a:pt x="2274" y="47"/>
                  <a:pt x="2283" y="19"/>
                  <a:pt x="2271" y="19"/>
                </a:cubicBezTo>
                <a:cubicBezTo>
                  <a:pt x="1725" y="10"/>
                  <a:pt x="1180" y="14"/>
                  <a:pt x="634" y="12"/>
                </a:cubicBezTo>
                <a:cubicBezTo>
                  <a:pt x="421" y="0"/>
                  <a:pt x="241" y="1"/>
                  <a:pt x="16" y="5"/>
                </a:cubicBezTo>
                <a:cubicBezTo>
                  <a:pt x="11" y="271"/>
                  <a:pt x="0" y="436"/>
                  <a:pt x="9" y="692"/>
                </a:cubicBezTo>
                <a:cubicBezTo>
                  <a:pt x="11" y="751"/>
                  <a:pt x="50" y="1025"/>
                  <a:pt x="9" y="1025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8"/>
          <p:cNvSpPr/>
          <p:nvPr/>
        </p:nvSpPr>
        <p:spPr>
          <a:xfrm>
            <a:off x="324000" y="2349360"/>
            <a:ext cx="71280" cy="2664000"/>
          </a:xfrm>
          <a:prstGeom prst="upArrow">
            <a:avLst>
              <a:gd name="adj1" fmla="val 50000"/>
              <a:gd name="adj2" fmla="val 9343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19"/>
          <p:cNvSpPr/>
          <p:nvPr/>
        </p:nvSpPr>
        <p:spPr>
          <a:xfrm>
            <a:off x="755640" y="2997360"/>
            <a:ext cx="71280" cy="1295280"/>
          </a:xfrm>
          <a:prstGeom prst="upArrow">
            <a:avLst>
              <a:gd name="adj1" fmla="val 50000"/>
              <a:gd name="adj2" fmla="val 45429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0"/>
          <p:cNvSpPr/>
          <p:nvPr/>
        </p:nvSpPr>
        <p:spPr>
          <a:xfrm>
            <a:off x="468360" y="4797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па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1"/>
          <p:cNvSpPr/>
          <p:nvPr/>
        </p:nvSpPr>
        <p:spPr>
          <a:xfrm>
            <a:off x="0" y="1773360"/>
            <a:ext cx="25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денсация п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2"/>
          <p:cNvSpPr/>
          <p:nvPr/>
        </p:nvSpPr>
        <p:spPr>
          <a:xfrm>
            <a:off x="2700360" y="242100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жд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3"/>
          <p:cNvSpPr/>
          <p:nvPr/>
        </p:nvSpPr>
        <p:spPr>
          <a:xfrm>
            <a:off x="7740720" y="40464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адк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4"/>
          <p:cNvSpPr/>
          <p:nvPr/>
        </p:nvSpPr>
        <p:spPr>
          <a:xfrm>
            <a:off x="3851280" y="692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5"/>
          <p:cNvSpPr/>
          <p:nvPr/>
        </p:nvSpPr>
        <p:spPr>
          <a:xfrm>
            <a:off x="503280" y="6165720"/>
            <a:ext cx="8640720" cy="459720"/>
          </a:xfrm>
          <a:prstGeom prst="rect">
            <a:avLst/>
          </a:prstGeom>
          <a:gradFill rotWithShape="0">
            <a:gsLst>
              <a:gs pos="0">
                <a:srgbClr val="dddddd">
                  <a:alpha val="65098"/>
                </a:srgbClr>
              </a:gs>
              <a:gs pos="100000">
                <a:srgbClr val="666666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говорот воды в природе – всемир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26"/>
          <p:cNvSpPr/>
          <p:nvPr/>
        </p:nvSpPr>
        <p:spPr>
          <a:xfrm>
            <a:off x="1187280" y="3429000"/>
            <a:ext cx="71640" cy="1295280"/>
          </a:xfrm>
          <a:prstGeom prst="upArrow">
            <a:avLst>
              <a:gd name="adj1" fmla="val 50000"/>
              <a:gd name="adj2" fmla="val 45201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27"/>
          <p:cNvSpPr/>
          <p:nvPr/>
        </p:nvSpPr>
        <p:spPr>
          <a:xfrm>
            <a:off x="2627280" y="3716280"/>
            <a:ext cx="73080" cy="1368360"/>
          </a:xfrm>
          <a:prstGeom prst="downArrow">
            <a:avLst>
              <a:gd name="adj1" fmla="val 50000"/>
              <a:gd name="adj2" fmla="val 46810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28"/>
          <p:cNvSpPr/>
          <p:nvPr/>
        </p:nvSpPr>
        <p:spPr>
          <a:xfrm>
            <a:off x="2268360" y="3860640"/>
            <a:ext cx="73080" cy="1368720"/>
          </a:xfrm>
          <a:prstGeom prst="downArrow">
            <a:avLst>
              <a:gd name="adj1" fmla="val 50000"/>
              <a:gd name="adj2" fmla="val 46822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9"/>
          <p:cNvSpPr/>
          <p:nvPr/>
        </p:nvSpPr>
        <p:spPr>
          <a:xfrm>
            <a:off x="4643280" y="3716280"/>
            <a:ext cx="73080" cy="1944720"/>
          </a:xfrm>
          <a:prstGeom prst="downArrow">
            <a:avLst>
              <a:gd name="adj1" fmla="val 50000"/>
              <a:gd name="adj2" fmla="val 665271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0"/>
          <p:cNvSpPr/>
          <p:nvPr/>
        </p:nvSpPr>
        <p:spPr>
          <a:xfrm>
            <a:off x="5435640" y="3573360"/>
            <a:ext cx="73080" cy="1511280"/>
          </a:xfrm>
          <a:prstGeom prst="downArrow">
            <a:avLst>
              <a:gd name="adj1" fmla="val 50000"/>
              <a:gd name="adj2" fmla="val 516995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1"/>
          <p:cNvSpPr/>
          <p:nvPr/>
        </p:nvSpPr>
        <p:spPr>
          <a:xfrm flipH="1">
            <a:off x="7163640" y="1484280"/>
            <a:ext cx="71640" cy="936720"/>
          </a:xfrm>
          <a:prstGeom prst="downArrow">
            <a:avLst>
              <a:gd name="adj1" fmla="val 50000"/>
              <a:gd name="adj2" fmla="val 326884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2"/>
          <p:cNvSpPr/>
          <p:nvPr/>
        </p:nvSpPr>
        <p:spPr>
          <a:xfrm>
            <a:off x="7667640" y="1413000"/>
            <a:ext cx="73080" cy="503280"/>
          </a:xfrm>
          <a:prstGeom prst="downArrow">
            <a:avLst>
              <a:gd name="adj1" fmla="val 50000"/>
              <a:gd name="adj2" fmla="val 1721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3"/>
          <p:cNvSpPr/>
          <p:nvPr/>
        </p:nvSpPr>
        <p:spPr>
          <a:xfrm>
            <a:off x="6732720" y="5373720"/>
            <a:ext cx="2158920" cy="287280"/>
          </a:xfrm>
          <a:prstGeom prst="wedgeRoundRectCallout">
            <a:avLst>
              <a:gd name="adj1" fmla="val -52796"/>
              <a:gd name="adj2" fmla="val -217402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rc 134"/>
          <p:cNvSpPr/>
          <p:nvPr/>
        </p:nvSpPr>
        <p:spPr>
          <a:xfrm flipV="1">
            <a:off x="3276720" y="2997360"/>
            <a:ext cx="4608360" cy="2808000"/>
          </a:xfrm>
          <a:custGeom>
            <a:avLst/>
            <a:gdLst>
              <a:gd name="textAreaLeft" fmla="*/ 0 w 4608360"/>
              <a:gd name="textAreaRight" fmla="*/ 4608720 w 4608360"/>
              <a:gd name="textAreaTop" fmla="*/ 360 h 2808000"/>
              <a:gd name="textAreaBottom" fmla="*/ 2808720 h 2808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5"/>
          <p:cNvSpPr/>
          <p:nvPr/>
        </p:nvSpPr>
        <p:spPr>
          <a:xfrm>
            <a:off x="6948360" y="5373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земн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4427640" y="4292640"/>
            <a:ext cx="2246040" cy="777960"/>
          </a:xfrm>
          <a:custGeom>
            <a:avLst/>
            <a:gdLst>
              <a:gd name="textAreaLeft" fmla="*/ 0 w 2246040"/>
              <a:gd name="textAreaRight" fmla="*/ 2246400 w 22460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415" h="490">
                <a:moveTo>
                  <a:pt x="0" y="490"/>
                </a:moveTo>
                <a:cubicBezTo>
                  <a:pt x="53" y="479"/>
                  <a:pt x="82" y="443"/>
                  <a:pt x="124" y="414"/>
                </a:cubicBezTo>
                <a:cubicBezTo>
                  <a:pt x="142" y="402"/>
                  <a:pt x="173" y="400"/>
                  <a:pt x="194" y="393"/>
                </a:cubicBezTo>
                <a:cubicBezTo>
                  <a:pt x="259" y="326"/>
                  <a:pt x="216" y="352"/>
                  <a:pt x="340" y="344"/>
                </a:cubicBezTo>
                <a:cubicBezTo>
                  <a:pt x="381" y="341"/>
                  <a:pt x="423" y="339"/>
                  <a:pt x="464" y="337"/>
                </a:cubicBezTo>
                <a:cubicBezTo>
                  <a:pt x="500" y="325"/>
                  <a:pt x="576" y="317"/>
                  <a:pt x="576" y="317"/>
                </a:cubicBezTo>
                <a:cubicBezTo>
                  <a:pt x="665" y="255"/>
                  <a:pt x="547" y="332"/>
                  <a:pt x="832" y="296"/>
                </a:cubicBezTo>
                <a:cubicBezTo>
                  <a:pt x="849" y="294"/>
                  <a:pt x="857" y="270"/>
                  <a:pt x="874" y="268"/>
                </a:cubicBezTo>
                <a:cubicBezTo>
                  <a:pt x="897" y="266"/>
                  <a:pt x="920" y="263"/>
                  <a:pt x="943" y="261"/>
                </a:cubicBezTo>
                <a:cubicBezTo>
                  <a:pt x="955" y="254"/>
                  <a:pt x="968" y="250"/>
                  <a:pt x="978" y="240"/>
                </a:cubicBezTo>
                <a:cubicBezTo>
                  <a:pt x="996" y="222"/>
                  <a:pt x="996" y="186"/>
                  <a:pt x="1020" y="178"/>
                </a:cubicBezTo>
                <a:cubicBezTo>
                  <a:pt x="1058" y="165"/>
                  <a:pt x="1102" y="155"/>
                  <a:pt x="1138" y="136"/>
                </a:cubicBezTo>
                <a:cubicBezTo>
                  <a:pt x="1145" y="132"/>
                  <a:pt x="1150" y="123"/>
                  <a:pt x="1158" y="122"/>
                </a:cubicBezTo>
                <a:cubicBezTo>
                  <a:pt x="1202" y="116"/>
                  <a:pt x="1246" y="117"/>
                  <a:pt x="1290" y="115"/>
                </a:cubicBezTo>
                <a:cubicBezTo>
                  <a:pt x="1299" y="113"/>
                  <a:pt x="1310" y="114"/>
                  <a:pt x="1318" y="108"/>
                </a:cubicBezTo>
                <a:cubicBezTo>
                  <a:pt x="1330" y="99"/>
                  <a:pt x="1327" y="77"/>
                  <a:pt x="1339" y="67"/>
                </a:cubicBezTo>
                <a:cubicBezTo>
                  <a:pt x="1415" y="0"/>
                  <a:pt x="1364" y="59"/>
                  <a:pt x="1387" y="32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37"/>
          <p:cNvSpPr/>
          <p:nvPr/>
        </p:nvSpPr>
        <p:spPr>
          <a:xfrm>
            <a:off x="4284720" y="4941720"/>
            <a:ext cx="216000" cy="265320"/>
          </a:xfrm>
          <a:custGeom>
            <a:avLst/>
            <a:gdLst>
              <a:gd name="textAreaLeft" fmla="*/ 88920 w 216000"/>
              <a:gd name="textAreaRight" fmla="*/ 127080 w 216000"/>
              <a:gd name="textAreaTop" fmla="*/ 109440 h 265320"/>
              <a:gd name="textAreaBottom" fmla="*/ 155880 h 265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8"/>
          <p:cNvSpPr/>
          <p:nvPr/>
        </p:nvSpPr>
        <p:spPr>
          <a:xfrm>
            <a:off x="3059280" y="4581360"/>
            <a:ext cx="1296720" cy="216000"/>
          </a:xfrm>
          <a:prstGeom prst="wedgeRoundRectCallout">
            <a:avLst>
              <a:gd name="adj1" fmla="val 42412"/>
              <a:gd name="adj2" fmla="val 150736"/>
              <a:gd name="adj3" fmla="val 16667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39"/>
          <p:cNvSpPr/>
          <p:nvPr/>
        </p:nvSpPr>
        <p:spPr>
          <a:xfrm>
            <a:off x="6877080" y="4005360"/>
            <a:ext cx="1800360" cy="288720"/>
          </a:xfrm>
          <a:prstGeom prst="wedgeRoundRectCallout">
            <a:avLst>
              <a:gd name="adj1" fmla="val -99296"/>
              <a:gd name="adj2" fmla="val 180768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0"/>
          <p:cNvSpPr/>
          <p:nvPr/>
        </p:nvSpPr>
        <p:spPr>
          <a:xfrm>
            <a:off x="6877080" y="40053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1"/>
          <p:cNvSpPr/>
          <p:nvPr/>
        </p:nvSpPr>
        <p:spPr>
          <a:xfrm>
            <a:off x="7885080" y="198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2"/>
          <p:cNvSpPr/>
          <p:nvPr/>
        </p:nvSpPr>
        <p:spPr>
          <a:xfrm>
            <a:off x="3708360" y="4653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43"/>
          <p:cNvSpPr/>
          <p:nvPr/>
        </p:nvSpPr>
        <p:spPr>
          <a:xfrm>
            <a:off x="8783640" y="3213000"/>
            <a:ext cx="360360" cy="3645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4"/>
          <p:cNvSpPr/>
          <p:nvPr/>
        </p:nvSpPr>
        <p:spPr>
          <a:xfrm>
            <a:off x="5796000" y="3860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45"/>
          <p:cNvSpPr/>
          <p:nvPr/>
        </p:nvSpPr>
        <p:spPr>
          <a:xfrm flipH="1">
            <a:off x="5363640" y="5300640"/>
            <a:ext cx="1008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46"/>
          <p:cNvSpPr/>
          <p:nvPr/>
        </p:nvSpPr>
        <p:spPr>
          <a:xfrm flipH="1">
            <a:off x="5579640" y="4292640"/>
            <a:ext cx="576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7"/>
          <p:cNvSpPr/>
          <p:nvPr/>
        </p:nvSpPr>
        <p:spPr>
          <a:xfrm flipH="1">
            <a:off x="4787640" y="4869000"/>
            <a:ext cx="64764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8"/>
          <p:cNvSpPr/>
          <p:nvPr/>
        </p:nvSpPr>
        <p:spPr>
          <a:xfrm flipH="1">
            <a:off x="6876720" y="2852640"/>
            <a:ext cx="35892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49"/>
          <p:cNvSpPr/>
          <p:nvPr/>
        </p:nvSpPr>
        <p:spPr>
          <a:xfrm flipH="1">
            <a:off x="5002920" y="3573360"/>
            <a:ext cx="73080" cy="936720"/>
          </a:xfrm>
          <a:prstGeom prst="upArrow">
            <a:avLst>
              <a:gd name="adj1" fmla="val 50000"/>
              <a:gd name="adj2" fmla="val 320443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0"/>
          <p:cNvSpPr/>
          <p:nvPr/>
        </p:nvSpPr>
        <p:spPr>
          <a:xfrm flipH="1">
            <a:off x="5723640" y="3357720"/>
            <a:ext cx="73080" cy="936360"/>
          </a:xfrm>
          <a:prstGeom prst="upArrow">
            <a:avLst>
              <a:gd name="adj1" fmla="val 50000"/>
              <a:gd name="adj2" fmla="val 32032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1"/>
          <p:cNvSpPr/>
          <p:nvPr/>
        </p:nvSpPr>
        <p:spPr>
          <a:xfrm flipH="1" flipV="1">
            <a:off x="684360" y="115560"/>
            <a:ext cx="71280" cy="14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52"/>
          <p:cNvSpPr/>
          <p:nvPr/>
        </p:nvSpPr>
        <p:spPr>
          <a:xfrm>
            <a:off x="971640" y="537372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3"/>
          <p:cNvSpPr/>
          <p:nvPr/>
        </p:nvSpPr>
        <p:spPr>
          <a:xfrm>
            <a:off x="8101080" y="4581360"/>
            <a:ext cx="10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Arial"/>
              </a:rPr>
              <a:t>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2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2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13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1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2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6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250" autoRev="1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7" dur="250" autoRev="1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33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6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36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Хоть в это поверить не очень лег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 Волги вода есть  в реке Лимпоп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, путешествуя облаком пар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ды из Волги текут в Ниага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и вода и в Байкале, и в Н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в Танганьике и в вашей кварт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начит, должны понимать это все 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ки – часть водной еди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, чтобы не быть с географией в спо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лга впадает в Каспийское мо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          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. Яки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98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98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98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98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98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98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98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98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98" fill="hold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98" fill="hold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ое значение имеет круговорот воды в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11280" y="443664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Перенос тепла и влаги на сушу и обратно – с суши на океа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. Перенос теп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. Обмен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ремя, за которое происходит обновление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рганизме нескольк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тмосфере – 8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ках 12-14 су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точных озерах – несколько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ировом океане – 200-3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лярных ледниках – 8000-1500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земных водах – сотни тысяч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происходит с водой, выпавшей в виде осадков на суш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и путями вода с суши возвращается в оке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явления круговорота воды можно наблюдать в Вашей мест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значение имеет мировой круговорот в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уговорот воды связал между собой литосферу, атмосферу и гидросферу. Докажите это утвержд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для себя Вы узнали на сегодняшнем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умай и отве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значение имеет вода для жизни на Земле? В жизни плане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агрегатных состояниях может находиться вода на Земл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тетради составить схему «Строение гидросфе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 словарь выписать определения: гидросфера, круговорот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Составить рассказ «Путешествие капельки воды» или «Вода путешественниц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2484360" y="19879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и туч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тум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 ручей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океан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етаю, и бег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стеклянной быть мог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3:20:59Z</dcterms:created>
  <dc:creator>пользователь</dc:creator>
  <dc:description/>
  <dc:language>en-US</dc:language>
  <cp:lastModifiedBy>Ольга</cp:lastModifiedBy>
  <dcterms:modified xsi:type="dcterms:W3CDTF">2016-12-23T08:12:17Z</dcterms:modified>
  <cp:revision>7</cp:revision>
  <dc:subject/>
  <dc:title>Слайд 1</dc:title>
</cp:coreProperties>
</file>